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25C6-01A7-4348-BA50-6EA933E6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F1EB-9A74-4D57-AB39-9D5C655C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5D8-0CD3-4C57-8AFE-AEF4BB6B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09B-A55D-4F64-B723-C417E552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0F3-30F6-43E8-A9AC-64793803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DF18-7FA6-4C1D-85B9-6A82A268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DCAB-144D-4087-A863-D0A113D8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BFB3-58EC-46D2-B067-A2A9640B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CC8E-6A6C-42C4-A558-D82A5D05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2EE-7738-4E37-83F1-F9DC9C52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F20-D3EC-433D-B081-640E361B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AE6-B59D-413D-A4CA-D7BE17C2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E245-A9F7-422F-B333-2354B88D2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120" y="59436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TRADUIT PAR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PIERRE CLÉRO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3576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 from "The Little Book of Calm" written by Paul Wil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89280" y="498600"/>
            <a:ext cx="56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UN VRAI AM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14600" y="380880"/>
            <a:ext cx="5495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N'IMPORTE QUI PEUT ETRE 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 VOS COTÉS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114800" y="5867280"/>
            <a:ext cx="3848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QUAND CA VA BIEN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038480" y="228600"/>
            <a:ext cx="363852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IS UN VRAI AMI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RA PRÉS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04920" y="6019920"/>
            <a:ext cx="75819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ORSQUE VOUS SEREZ TOUT CROCH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057400" y="5562720"/>
            <a:ext cx="685800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L AGIT COMME UN INVITÉ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52480" y="228600"/>
            <a:ext cx="66675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ORSQU'UN SIMPLE AMI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OUS VISIT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876840" y="0"/>
            <a:ext cx="5267160" cy="22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UN VÉRITABLE AMI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RA À L'AISE CHEZ VOUS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4724280"/>
            <a:ext cx="5333760" cy="15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ET SE SERVIRA 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LUI MEME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28600" y="228600"/>
            <a:ext cx="51055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UN SIMPLE AMI VOUDRAS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71800" y="5410080"/>
            <a:ext cx="5981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QUE VOUS SOYEZ TOUJOURS 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LÀ POUR LUI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0" y="380880"/>
            <a:ext cx="41911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UN VÉRITABLE AMI SER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5791320"/>
            <a:ext cx="490536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OUJOURS LÀ POUR VOU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267080" y="228600"/>
            <a:ext cx="44197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LORS POURQUOI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 PAS DIRE A VOS AMIS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76520" y="4800600"/>
            <a:ext cx="6400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BIEN VOUS LES AIMÉ ET 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'ILS VOUS MANQUENT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276720" y="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UN GROS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ALIN.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Image1" descr=""/>
          <p:cNvPicPr/>
          <p:nvPr/>
        </p:nvPicPr>
        <p:blipFill>
          <a:blip r:embed="rId2"/>
          <a:stretch/>
        </p:blipFill>
        <p:spPr>
          <a:xfrm>
            <a:off x="7467480" y="535932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firstslide"/>
          </p:cNvPr>
          <p:cNvSpPr/>
          <p:nvPr/>
        </p:nvSpPr>
        <p:spPr>
          <a:xfrm>
            <a:off x="6553080" y="5638680"/>
            <a:ext cx="990720" cy="685800"/>
          </a:xfrm>
          <a:prstGeom prst="leftArrow">
            <a:avLst>
              <a:gd name="adj1" fmla="val 50000"/>
              <a:gd name="adj2" fmla="val 36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09:53:33Z</dcterms:created>
  <dc:creator>Ronald @ Prontot</dc:creator>
  <dc:description/>
  <dc:language>en-US</dc:language>
  <cp:lastModifiedBy>TELEBEC</cp:lastModifiedBy>
  <dcterms:modified xsi:type="dcterms:W3CDTF">2001-11-20T01:22:50Z</dcterms:modified>
  <cp:revision>6</cp:revision>
  <dc:subject/>
  <dc:title>No Slide Title</dc:title>
</cp:coreProperties>
</file>