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960-2C9D-4449-8C0B-72D5D1F8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423-A27E-4A2B-9AE1-9525804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9A6-EC17-4E7D-9188-16315A30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8D5-BF5F-422B-A9F4-5FBA404E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1D9-1BB3-4059-87C9-8A3601C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A92-73FC-470E-8E5D-223F095B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C66-E007-4F33-B146-48D1CEC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64D-4CE9-4298-8BB2-B32DE94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406-7C54-4F1D-8DA9-EFE155AA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EA7-BA7E-40FD-95BA-074AC2A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945-0525-4806-8693-3B88ACE4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576-A978-4139-A940-30FCF05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177-2D62-4179-898B-2B670D4D7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762120"/>
            <a:ext cx="2819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TEST</a:t>
            </a: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057400"/>
            <a:ext cx="50292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REVELAT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05320"/>
            <a:ext cx="8153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FAITES-LE DES QUE VOUS AVEZ UN MOMENT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2743200"/>
            <a:ext cx="5790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Times New Roman"/>
              </a:rPr>
              <a:t>C'est fait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09680"/>
            <a:ext cx="914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Maintenant, regardez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orresponda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Question 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L'ordre de votre choix va définir vos priorités dans la v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3000" y="3057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7432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Vache 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symbolise la carriè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Tigre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: représente la fiert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26708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Loup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: désigne l'am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87692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heval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la famil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3868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Cochon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: c'est pour l'arg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stion 2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ien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représente votre propre personn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at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représente votre conjoint(e) ou votre personnalité de cou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0532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rat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 symbolise la personnalité de vos enne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720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u 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café 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montre la manière dont vous interprétez le sex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Votre description de l'</a:t>
            </a: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océan</a:t>
            </a:r>
            <a:r>
              <a:rPr b="1" lang="fr-FR" sz="2800" spc="-1" strike="noStrike">
                <a:solidFill>
                  <a:srgbClr val="ffff66"/>
                </a:solidFill>
                <a:latin typeface="Times New Roman"/>
              </a:rPr>
              <a:t> représente votre 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stion 3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Jaune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 : Une personne que vous n'oublierez ja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623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9900"/>
                </a:solidFill>
                <a:uFillTx/>
                <a:latin typeface="Times New Roman"/>
              </a:rPr>
              <a:t>Orange</a:t>
            </a:r>
            <a:r>
              <a:rPr b="1" lang="fr-FR" sz="3200" spc="-1" strike="noStrike">
                <a:solidFill>
                  <a:srgbClr val="ff9900"/>
                </a:solidFill>
                <a:latin typeface="Times New Roman"/>
              </a:rPr>
              <a:t>: Quelqu'un que vous pouvez considérer comme un(e) très bon(ne) ami(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812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e0000"/>
                </a:solidFill>
                <a:uFillTx/>
                <a:latin typeface="Times New Roman"/>
              </a:rPr>
              <a:t>Rouge</a:t>
            </a:r>
            <a:r>
              <a:rPr b="1" lang="fr-FR" sz="3200" spc="-1" strike="noStrike">
                <a:solidFill>
                  <a:srgbClr val="fe0000"/>
                </a:solidFill>
                <a:latin typeface="Times New Roman"/>
              </a:rPr>
              <a:t> : Quelqu'un que vous aimez réel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nc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: Votre âme 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486400"/>
            <a:ext cx="891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ff00"/>
                </a:solidFill>
                <a:uFillTx/>
                <a:latin typeface="Times New Roman"/>
              </a:rPr>
              <a:t>Vert </a:t>
            </a:r>
            <a:r>
              <a:rPr b="1" lang="fr-FR" sz="3200" spc="-1" strike="noStrike">
                <a:solidFill>
                  <a:srgbClr val="00ff00"/>
                </a:solidFill>
                <a:latin typeface="Times New Roman"/>
              </a:rPr>
              <a:t>: Quelqu'un dont vous vous rappellerez toute votre 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838080"/>
            <a:ext cx="83818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Envoyez ce mess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à autant de person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que votre nombre favori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et votre souhait se réalisera lors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votre jour préfér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'est ce que le Dalaï Lama a dit pour le Millénaire, et ça ne prend que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quelques minutes pour le lire et y pens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Ne gardez pas ce message, le"mantra" doit quitter vos mains. Vous aurez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une belle surpris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Envoyez ce "mantra" e-mail, et votre vie va changer favorablement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0-4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: Votre vie va tout doucement évoluer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5-9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: La vie va changer selon vos propres besoins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9-14 personn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: Vous aurez au moins 5 bonnes surprises dans les 3</a:t>
            </a:r>
            <a:br>
              <a:rPr sz="2400"/>
            </a:b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semaines.</a:t>
            </a:r>
            <a:br>
              <a:rPr sz="2400"/>
            </a:b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15 ou plu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: Votre vie va complètement changer et tout ce dont vous rêvez va devenir réalité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"</a:t>
            </a: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Si quelqu'un ne te sourit pas, sois généreux et offre ton sourire.</a:t>
            </a:r>
            <a:br>
              <a:rPr sz="2400"/>
            </a:b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Personne n'a plus besoin d'un sourire que celui qui ne peut sourire aux aut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Le test de personnalité du Dalaî Lama est un test très révélateur. Il n'a</a:t>
            </a:r>
            <a:br>
              <a:rPr sz="4400"/>
            </a:b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que 4 questions, mais vous serez surpris(e) par les résultats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L'esprit d'un humain est comme 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cc"/>
                </a:solidFill>
                <a:latin typeface="Times New Roman"/>
              </a:rPr>
              <a:t>parapluie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il travaille mi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lorsqu'il est ouver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cc"/>
                </a:solidFill>
                <a:latin typeface="Times New Roman"/>
              </a:rPr>
              <a:t>suivez les instructions et amusez-vous avec ces 4 questions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0512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TOUT D'ABORD, FAI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UN VOE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66cc"/>
                </a:solidFill>
                <a:latin typeface="Times New Roman"/>
              </a:rPr>
              <a:t>AVANT DE COMMENCER CE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5720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Attention, répondez aux questions une à une</a:t>
            </a:r>
            <a:r>
              <a:rPr b="0" lang="fr-FR" sz="2400" spc="-1" strike="noStrike">
                <a:solidFill>
                  <a:srgbClr val="ff66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765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cc"/>
                </a:solidFill>
                <a:latin typeface="Times New Roman"/>
              </a:rPr>
              <a:t>Ne trichez pas, sinon cela ne marchera pa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1788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C'est un questionnaire sérieux qui vous en dira beaucoup sur votre</a:t>
            </a:r>
            <a:br>
              <a:rPr sz="3200"/>
            </a:br>
            <a:r>
              <a:rPr b="1" lang="fr-FR" sz="3200" spc="-1" strike="noStrike">
                <a:solidFill>
                  <a:srgbClr val="ff66cc"/>
                </a:solidFill>
                <a:latin typeface="Times New Roman"/>
              </a:rPr>
              <a:t>personna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10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Écrivez les réponses sur du papier au fur et à me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Premièrement, classez ces animaux par ordre croissant selon votre préférence</a:t>
            </a:r>
            <a:r>
              <a:rPr b="1" lang="fr-FR" sz="3200" spc="-1" strike="noStrike">
                <a:solidFill>
                  <a:srgbClr val="ff99cc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V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97180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Tig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34340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L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44197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e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5334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och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Deuxièmement, écrivez un qualificatif correspondant à chacun des mots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suiv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0481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64832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h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97180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R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41972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Caf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37df1"/>
                </a:solidFill>
                <a:latin typeface="Times New Roman"/>
              </a:rPr>
              <a:t>Océ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Troisièmement, pensez à quelqu'un                        (qui vous connaît aussi et qui est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important à vos yeux)                                                et que vous pouvez lier avec les couleurs suivantes</a:t>
            </a:r>
            <a:br>
              <a:rPr sz="3200"/>
            </a:br>
            <a:r>
              <a:rPr b="1" lang="fr-FR" sz="3200" spc="-1" strike="noStrike">
                <a:solidFill>
                  <a:srgbClr val="e37df1"/>
                </a:solidFill>
                <a:latin typeface="Times New Roman"/>
              </a:rPr>
              <a:t>(Une personne par couleur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2670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25780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25780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Times New Roman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35268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00"/>
                </a:solidFill>
                <a:latin typeface="Times New Roman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438280"/>
            <a:ext cx="914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37df1"/>
                </a:solidFill>
                <a:latin typeface="Times New Roman"/>
              </a:rPr>
              <a:t>Enfin, écrivez votre nombre favori, ainsi que votre jour préféré de la sema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9:04:56Z</dcterms:created>
  <dc:creator>Norby</dc:creator>
  <dc:description/>
  <dc:language>en-US</dc:language>
  <cp:lastModifiedBy>TELEBEC</cp:lastModifiedBy>
  <dcterms:modified xsi:type="dcterms:W3CDTF">2002-02-28T02:46:21Z</dcterms:modified>
  <cp:revision>4</cp:revision>
  <dc:subject/>
  <dc:title>Présentation PowerPoint</dc:title>
</cp:coreProperties>
</file>