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4EE-891B-4D44-8607-482D5CF2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AF1-4943-4B8B-857C-E2E4203F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B57-FCCE-4996-AD89-7EFD140A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C2D-D23B-4BF8-88DD-3524613A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FC2-35B8-4167-8A3B-D4C0194A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FD8-3900-4D06-9FEB-48AA4C4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C7D-A957-40B4-9048-897A8918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5A3-6AFA-4712-9399-D7B9A046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AFC-B57A-41CE-82B8-A026AF7B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25B-9B77-483F-BE40-2CF2AE18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21C-6E4B-4F0B-B22F-FF53C6E5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D57-F767-4867-A0AA-3F28E5F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6C2F-A591-49A4-B8FA-FDE306809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42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7880" y="312408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0 secondes pour répondre…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ention… top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45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4440" y="2666880"/>
            <a:ext cx="740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JE SUI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Une chose très utile qui mesure en géné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dans les 15 centimètr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En temps normal, je suis là, inerte, attendant l'a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On trouve à l'une de mes extrémit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un buisson de poils que je porte avec arrog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48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2040" y="2743200"/>
            <a:ext cx="79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Lorsqu'on m'utilise, c'est en m'introduisant prompt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et souvent vigoureusemen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Mais il y a les adeptes d'une utilisation rapi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comme ceux d'une utilisation lent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tout dépend du tempér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et de la condition phys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51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33680" y="2666880"/>
            <a:ext cx="822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Cependant la méthode d'emploi est toujours la mêm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Des va-et-vient répétés dans une cavité chaude et humi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qui créent une très forte excitation de la zone concer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Lorsque j'ai finalement terminé mon offi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je laisse dans la cavité humide une substance blanch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moussante, collante et un peu sucr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54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2133720"/>
            <a:ext cx="7826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On retrouvera également cette sécrétion sur moi mê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et dans mes poils. Il faudra me nettoyer pour que je s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à nouveau propre en attendant mon prochain emplo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Une fois de retour a l'état de rep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j'attends sagement ma prochaine utilisation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On pourrait m'utiliser 2 a 3 fois par j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mais c'est un rythme d'utilisation que pe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de personnes sont capables de soutenir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57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35800" y="320040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Je suis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60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97160" y="2911320"/>
            <a:ext cx="3413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5000" spc="-1" strike="noStrike">
                <a:solidFill>
                  <a:srgbClr val="ffff00"/>
                </a:solidFill>
                <a:latin typeface="Arial"/>
                <a:ea typeface="Arial Unicode MS"/>
              </a:rPr>
              <a:t>Je suis …?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63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7600" y="2666880"/>
            <a:ext cx="5491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en-US" sz="8000" spc="-1" strike="noStrike">
                <a:solidFill>
                  <a:srgbClr val="ffff00"/>
                </a:solidFill>
                <a:latin typeface="Arial"/>
                <a:ea typeface="Arial Unicode MS"/>
              </a:rPr>
              <a:t>Je suis …?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qpuc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352680" cy="958680"/>
          </a:xfrm>
          <a:prstGeom prst="rect">
            <a:avLst/>
          </a:prstGeom>
          <a:ln w="0">
            <a:noFill/>
          </a:ln>
        </p:spPr>
      </p:pic>
      <p:pic>
        <p:nvPicPr>
          <p:cNvPr id="66" name="lp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762120" cy="588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95280" y="2362320"/>
            <a:ext cx="71629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rush" descr=""/>
          <p:cNvPicPr/>
          <p:nvPr/>
        </p:nvPicPr>
        <p:blipFill>
          <a:blip r:embed="rId4"/>
          <a:stretch/>
        </p:blipFill>
        <p:spPr>
          <a:xfrm>
            <a:off x="2438280" y="2438280"/>
            <a:ext cx="903240" cy="3124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08200" y="2971800"/>
            <a:ext cx="45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la brosse à d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800" y="449424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( bande d’obsédés !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12:00Z</dcterms:created>
  <dc:creator>Julien Lepers</dc:creator>
  <dc:description/>
  <dc:language>en-US</dc:language>
  <cp:lastModifiedBy>TELEBEC</cp:lastModifiedBy>
  <dcterms:modified xsi:type="dcterms:W3CDTF">2001-11-20T01:31:21Z</dcterms:modified>
  <cp:revision>5</cp:revision>
  <dc:subject/>
  <dc:title>Question pour des champions</dc:title>
</cp:coreProperties>
</file>