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camera.wav" ContentType="audio/x-wav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59FD-CF59-4F88-9447-032AB0325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A367-448A-4D01-ACCD-561445B51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455D-89FC-42F1-AFCC-C25AE9A03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D05A-2D94-4F07-8D57-01CE6256B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FFB4-4CE6-4274-9365-DD266B0F4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FA20-89C9-4371-8174-C598A8FD4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0859-FEC7-456C-BC84-28F654763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13CC-1E3A-4BD1-A14E-26FD0608E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EE37-08CD-42D8-BE17-1484DCF0F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8962-C652-4138-8607-D16AE1F9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48FC-46DB-4C8B-A500-D8713D53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1B0D-7A39-4BC5-BE7E-6CCC5074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DDDBC-33F3-4A1D-B210-CEBB62DFBD9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uminos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18840" y="5334120"/>
            <a:ext cx="6855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9ccff"/>
                </a:solidFill>
                <a:latin typeface="Times New Roman"/>
              </a:rPr>
              <a:t>Te souviens-tu de ton premier baiser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9ccff"/>
                </a:solidFill>
                <a:latin typeface="Times New Roman"/>
              </a:rPr>
              <a:t>Avec la langue 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15228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99ff"/>
                </a:solidFill>
                <a:latin typeface="Times New Roman"/>
              </a:rPr>
              <a:t>Il y a des choses dans la vie q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99ff"/>
                </a:solidFill>
                <a:latin typeface="Times New Roman"/>
              </a:rPr>
              <a:t>nous n’oublions jamais 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824680" y="25560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fade thruBlk="true"/>
    <p:sndAc>
      <p:stSnd>
        <p:snd r:embed="rId2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firstkis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50292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Times New Roman"/>
              </a:rPr>
              <a:t>Je parie que tu 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Times New Roman"/>
              </a:rPr>
              <a:t>t’en souvenais pas 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053280" y="16416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fade thruBlk="true"/>
    <p:sndAc>
      <p:stSnd>
        <p:snd r:embed="rId2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3T02:14:51Z</dcterms:created>
  <dc:creator>JOAO HENRIQUE CARVALHO</dc:creator>
  <dc:description/>
  <dc:language>en-US</dc:language>
  <cp:lastModifiedBy>TELEBEC</cp:lastModifiedBy>
  <dcterms:modified xsi:type="dcterms:W3CDTF">2001-10-09T01:49:39Z</dcterms:modified>
  <cp:revision>9</cp:revision>
  <dc:subject/>
  <dc:title>Apresentação do PowerPoint</dc:title>
</cp:coreProperties>
</file>