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8E8-7657-4D65-B3E8-AF7D9B5C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123-37FE-4DD6-8D65-C55D0F6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DB7-23C9-48CE-A365-16902BBE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02D-98A5-407F-BC79-AEB90694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605-1195-4276-9FED-7ADE800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A14-D9F2-421C-9411-A815BED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675-A99A-4BDE-AF1B-B4AE532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042-7CA7-4600-B903-9AD55ED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C78-AAF1-4447-82AA-EDB4D21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E37-C130-47E6-8CFB-1990C22C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59D-25F0-4CF4-B620-F8EDBC2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736-7FA8-49C2-A724-021145D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2E80-F591-4E75-BB55-3B55D925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ÉTRANG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i un petit exerc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ématique qui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tonnera plu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'un(e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premier de ces trois chiffres devrait êtr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nombre de fois par semaine où vous aimeriez aller au res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plus cool est a venir !!!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 deux derniers chiff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rrespondent à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00"/>
                </a:solidFill>
                <a:latin typeface="Times New Roman"/>
              </a:rPr>
              <a:t>Votre âge !!!!!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ette année (200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) est la seule année où ça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fonctionne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alors envoyez-le à vos am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(ça prend seulement 30 secondes, v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n'avez qu‘à suivre les instructions au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    fur et à mesur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Ne lisez surtout pas la f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avant d'avoir tout calcul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oisissez d'abord le nombre de soirs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maine où vous aimeriez aller au resto.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pliez ce chiffre par deux (2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joutez cinq (5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ltipliez par cinquante (50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Si vous avez déjà passé votre annivers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cette année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Ajoutez 175</a:t>
            </a:r>
            <a:r>
              <a:rPr b="0" lang="fr-CH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Sinon, Ajoutez 175</a:t>
            </a:r>
            <a:r>
              <a:rPr b="0" lang="fr-CH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rnière étap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ustrayez le chiffre correspond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à votre année de naiss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ex.: 1941, 1973, etc.)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us devriez maintenant avo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nombre à trois chiffr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9:33:59Z</dcterms:created>
  <dc:creator/>
  <dc:description/>
  <dc:language>en-US</dc:language>
  <cp:lastModifiedBy>TELEBEC</cp:lastModifiedBy>
  <dcterms:modified xsi:type="dcterms:W3CDTF">2002-04-27T03:20:58Z</dcterms:modified>
  <cp:revision>14</cp:revision>
  <dc:subject/>
  <dc:title>Petit jeu</dc:title>
</cp:coreProperties>
</file>