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97C-E1B5-43DB-A5F1-3EB50BA1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C4C-C0A3-41B5-99FE-F0C8922E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1E6-79FB-4E43-A668-E04A036B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D1C-58CE-4BD0-AB2C-C9B28B42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A081-B11E-4670-85FD-4B4B80FF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BEAD-B8CC-4384-AD7C-6A4C406C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EA42-D4C7-4336-AE5C-78E7D1BE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B4DE-38EE-4430-864E-C3041F17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4858-859C-4309-9F35-4B9EBA68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73F6-269B-4291-807D-A8C4E36C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616E-543C-4B44-A15D-B93B4E31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67CA-C232-4D0D-BB83-F9C7FDC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A151-5345-4516-9D87-E6FB949E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C37C-1D0A-47FA-8E42-7DDEFA2E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5CE8-063C-4079-BD04-4DDBC35B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04E8-AD6D-4C43-AA69-F8800574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B9FB-224F-4D05-83E4-BA429B98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1C4A-9156-42EE-A9BC-D29381E7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1467-8953-4E67-909E-1AB127FF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338-73BA-4EA5-A1E5-2E2D2BED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BCDC-6304-4F8E-9EDA-94CE956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217-36F6-4DE5-9D09-77CDD33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606-BEC2-4DD2-83EB-A54DCE7F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72A-DBD6-4617-8371-978346DB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BB87-8863-4AB9-AD8B-2938BDA5B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BCFF-3CA9-46D0-ADE0-6BF02522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48320" y="1523880"/>
            <a:ext cx="4495680" cy="4114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66"/>
                </a:solidFill>
                <a:latin typeface="Arial"/>
              </a:rPr>
              <a:t>A annoncé qu’un nouveau virus a été récemment découvert...</a:t>
            </a:r>
            <a:r>
              <a:rPr b="0" lang="es-AR" sz="4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800" spc="-1" strike="noStrike">
                <a:solidFill>
                  <a:srgbClr val="000066"/>
                </a:solidFill>
                <a:latin typeface="Arial Black"/>
              </a:rPr>
              <a:t>CNN</a:t>
            </a:r>
            <a:r>
              <a:rPr b="0" lang="es-AR" sz="4800" spc="-1" strike="noStrike">
                <a:solidFill>
                  <a:srgbClr val="6699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0492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800" spc="-1" strike="noStrike">
                <a:solidFill>
                  <a:srgbClr val="cc66ff"/>
                </a:solidFill>
                <a:latin typeface="Arial Black"/>
              </a:rPr>
              <a:t>CNN</a:t>
            </a:r>
            <a:r>
              <a:rPr b="0" lang="es-AR" sz="4800" spc="-1" strike="noStrike">
                <a:solidFill>
                  <a:srgbClr val="cc66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685800"/>
            <a:ext cx="3581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8800" spc="-1" strike="noStrike">
                <a:solidFill>
                  <a:srgbClr val="ffffff"/>
                </a:solidFill>
                <a:latin typeface="Arial Black"/>
              </a:rPr>
              <a:t>CNN</a:t>
            </a: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31400" y="685800"/>
            <a:ext cx="7086600" cy="320040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Une seule personne peut le transmettre à des milliers d’autres personnes car il est très contagieux.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Le Centre de santé a constaté cette semaine qu’il se propage très rapidement d’une personne à l’aut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998880" y="4064040"/>
            <a:ext cx="1182600" cy="2488320"/>
            <a:chOff x="3998880" y="4064040"/>
            <a:chExt cx="1182600" cy="2488320"/>
          </a:xfrm>
        </p:grpSpPr>
        <p:grpSp>
          <p:nvGrpSpPr>
            <p:cNvPr id="105" name=""/>
            <p:cNvGrpSpPr/>
            <p:nvPr/>
          </p:nvGrpSpPr>
          <p:grpSpPr>
            <a:xfrm>
              <a:off x="3998880" y="4835160"/>
              <a:ext cx="1182600" cy="1717200"/>
              <a:chOff x="3998880" y="4835160"/>
              <a:chExt cx="1182600" cy="1717200"/>
            </a:xfrm>
          </p:grpSpPr>
          <p:sp>
            <p:nvSpPr>
              <p:cNvPr id="106" name=""/>
              <p:cNvSpPr/>
              <p:nvPr/>
            </p:nvSpPr>
            <p:spPr>
              <a:xfrm>
                <a:off x="4201920" y="4835160"/>
                <a:ext cx="792360" cy="37116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998880" y="5076360"/>
                <a:ext cx="1182600" cy="147600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000320" y="4835160"/>
                <a:ext cx="435240" cy="59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41560" y="4838040"/>
                <a:ext cx="438120" cy="59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267080" y="4064040"/>
              <a:ext cx="642960" cy="71244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855880" y="4140360"/>
            <a:ext cx="1106640" cy="2412000"/>
            <a:chOff x="2855880" y="4140360"/>
            <a:chExt cx="1106640" cy="2412000"/>
          </a:xfrm>
        </p:grpSpPr>
        <p:grpSp>
          <p:nvGrpSpPr>
            <p:cNvPr id="112" name=""/>
            <p:cNvGrpSpPr/>
            <p:nvPr/>
          </p:nvGrpSpPr>
          <p:grpSpPr>
            <a:xfrm>
              <a:off x="2855880" y="4887720"/>
              <a:ext cx="1106640" cy="1664640"/>
              <a:chOff x="2855880" y="4887720"/>
              <a:chExt cx="1106640" cy="1664640"/>
            </a:xfrm>
          </p:grpSpPr>
          <p:sp>
            <p:nvSpPr>
              <p:cNvPr id="113" name=""/>
              <p:cNvSpPr/>
              <p:nvPr/>
            </p:nvSpPr>
            <p:spPr>
              <a:xfrm>
                <a:off x="3045600" y="4887720"/>
                <a:ext cx="741240" cy="3600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855880" y="5121720"/>
                <a:ext cx="1106640" cy="143064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856960" y="4887720"/>
                <a:ext cx="40716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510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106800" y="4140360"/>
              <a:ext cx="601560" cy="69084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712880" y="4368960"/>
            <a:ext cx="1030320" cy="2183400"/>
            <a:chOff x="1712880" y="4368960"/>
            <a:chExt cx="1030320" cy="2183400"/>
          </a:xfrm>
        </p:grpSpPr>
        <p:grpSp>
          <p:nvGrpSpPr>
            <p:cNvPr id="119" name=""/>
            <p:cNvGrpSpPr/>
            <p:nvPr/>
          </p:nvGrpSpPr>
          <p:grpSpPr>
            <a:xfrm>
              <a:off x="1712880" y="5045760"/>
              <a:ext cx="1030320" cy="1506600"/>
              <a:chOff x="1712880" y="5045760"/>
              <a:chExt cx="1030320" cy="1506600"/>
            </a:xfrm>
          </p:grpSpPr>
          <p:sp>
            <p:nvSpPr>
              <p:cNvPr id="120" name=""/>
              <p:cNvSpPr/>
              <p:nvPr/>
            </p:nvSpPr>
            <p:spPr>
              <a:xfrm>
                <a:off x="1889640" y="5045760"/>
                <a:ext cx="690120" cy="3258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2880" y="5257440"/>
                <a:ext cx="1030320" cy="12949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13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6016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946520" y="4368960"/>
              <a:ext cx="560160" cy="62532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6200" y="4597560"/>
            <a:ext cx="877680" cy="1955160"/>
            <a:chOff x="646200" y="4597560"/>
            <a:chExt cx="877680" cy="1955160"/>
          </a:xfrm>
        </p:grpSpPr>
        <p:grpSp>
          <p:nvGrpSpPr>
            <p:cNvPr id="126" name=""/>
            <p:cNvGrpSpPr/>
            <p:nvPr/>
          </p:nvGrpSpPr>
          <p:grpSpPr>
            <a:xfrm>
              <a:off x="646200" y="5203440"/>
              <a:ext cx="877680" cy="1349280"/>
              <a:chOff x="646200" y="5203440"/>
              <a:chExt cx="877680" cy="1349280"/>
            </a:xfrm>
          </p:grpSpPr>
          <p:sp>
            <p:nvSpPr>
              <p:cNvPr id="127" name=""/>
              <p:cNvSpPr/>
              <p:nvPr/>
            </p:nvSpPr>
            <p:spPr>
              <a:xfrm>
                <a:off x="796680" y="5203440"/>
                <a:ext cx="587880" cy="2916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6200" y="5393160"/>
                <a:ext cx="877680" cy="115956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692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19736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844920" y="4597560"/>
              <a:ext cx="477000" cy="55980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217840" y="4140360"/>
            <a:ext cx="1106280" cy="2412000"/>
            <a:chOff x="5217840" y="4140360"/>
            <a:chExt cx="1106280" cy="2412000"/>
          </a:xfrm>
        </p:grpSpPr>
        <p:grpSp>
          <p:nvGrpSpPr>
            <p:cNvPr id="133" name=""/>
            <p:cNvGrpSpPr/>
            <p:nvPr/>
          </p:nvGrpSpPr>
          <p:grpSpPr>
            <a:xfrm>
              <a:off x="5217840" y="4887720"/>
              <a:ext cx="1106280" cy="1664640"/>
              <a:chOff x="5217840" y="4887720"/>
              <a:chExt cx="1106280" cy="1664640"/>
            </a:xfrm>
          </p:grpSpPr>
          <p:sp>
            <p:nvSpPr>
              <p:cNvPr id="134" name=""/>
              <p:cNvSpPr/>
              <p:nvPr/>
            </p:nvSpPr>
            <p:spPr>
              <a:xfrm flipH="1">
                <a:off x="5392800" y="4887720"/>
                <a:ext cx="741240" cy="3600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5217480" y="5121720"/>
                <a:ext cx="1106280" cy="143064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5916240" y="488772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52196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H="1">
              <a:off x="5472360" y="4140360"/>
              <a:ext cx="601200" cy="69084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437160" y="4368960"/>
            <a:ext cx="1030320" cy="2183400"/>
            <a:chOff x="6437160" y="4368960"/>
            <a:chExt cx="1030320" cy="2183400"/>
          </a:xfrm>
        </p:grpSpPr>
        <p:grpSp>
          <p:nvGrpSpPr>
            <p:cNvPr id="140" name=""/>
            <p:cNvGrpSpPr/>
            <p:nvPr/>
          </p:nvGrpSpPr>
          <p:grpSpPr>
            <a:xfrm>
              <a:off x="6437160" y="5045760"/>
              <a:ext cx="1030320" cy="1506600"/>
              <a:chOff x="6437160" y="5045760"/>
              <a:chExt cx="1030320" cy="1506600"/>
            </a:xfrm>
          </p:grpSpPr>
          <p:sp>
            <p:nvSpPr>
              <p:cNvPr id="141" name=""/>
              <p:cNvSpPr/>
              <p:nvPr/>
            </p:nvSpPr>
            <p:spPr>
              <a:xfrm flipH="1">
                <a:off x="6600240" y="5045760"/>
                <a:ext cx="690120" cy="3258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6437160" y="5257440"/>
                <a:ext cx="1030320" cy="12949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086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643860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H="1">
              <a:off x="6673680" y="4368960"/>
              <a:ext cx="560160" cy="62532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656120" y="4597560"/>
            <a:ext cx="878040" cy="1955160"/>
            <a:chOff x="7656120" y="4597560"/>
            <a:chExt cx="878040" cy="1955160"/>
          </a:xfrm>
        </p:grpSpPr>
        <p:grpSp>
          <p:nvGrpSpPr>
            <p:cNvPr id="147" name=""/>
            <p:cNvGrpSpPr/>
            <p:nvPr/>
          </p:nvGrpSpPr>
          <p:grpSpPr>
            <a:xfrm>
              <a:off x="7656120" y="5203440"/>
              <a:ext cx="878040" cy="1349280"/>
              <a:chOff x="7656120" y="5203440"/>
              <a:chExt cx="878040" cy="134928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7795440" y="5203440"/>
                <a:ext cx="588240" cy="29160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7655760" y="5393160"/>
                <a:ext cx="878040" cy="115956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821016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765720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flipH="1">
              <a:off x="7857720" y="4597560"/>
              <a:ext cx="477360" cy="559800"/>
            </a:xfrm>
            <a:prstGeom prst="ellipse">
              <a:avLst/>
            </a:prstGeom>
            <a:solidFill>
              <a:srgbClr val="cc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98880" y="4064040"/>
            <a:ext cx="1182600" cy="2488320"/>
            <a:chOff x="3998880" y="4064040"/>
            <a:chExt cx="1182600" cy="2488320"/>
          </a:xfrm>
        </p:grpSpPr>
        <p:grpSp>
          <p:nvGrpSpPr>
            <p:cNvPr id="154" name=""/>
            <p:cNvGrpSpPr/>
            <p:nvPr/>
          </p:nvGrpSpPr>
          <p:grpSpPr>
            <a:xfrm>
              <a:off x="3998880" y="4835160"/>
              <a:ext cx="1182600" cy="1717200"/>
              <a:chOff x="3998880" y="4835160"/>
              <a:chExt cx="1182600" cy="1717200"/>
            </a:xfrm>
          </p:grpSpPr>
          <p:sp>
            <p:nvSpPr>
              <p:cNvPr id="155" name=""/>
              <p:cNvSpPr/>
              <p:nvPr/>
            </p:nvSpPr>
            <p:spPr>
              <a:xfrm>
                <a:off x="4201920" y="4835160"/>
                <a:ext cx="792360" cy="371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98880" y="5076360"/>
                <a:ext cx="1182600" cy="1476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00320" y="4835160"/>
                <a:ext cx="435240" cy="59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41560" y="4838040"/>
                <a:ext cx="438120" cy="59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4267080" y="4064040"/>
              <a:ext cx="642960" cy="7124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855880" y="4140360"/>
            <a:ext cx="1106640" cy="2412000"/>
            <a:chOff x="2855880" y="4140360"/>
            <a:chExt cx="1106640" cy="2412000"/>
          </a:xfrm>
        </p:grpSpPr>
        <p:grpSp>
          <p:nvGrpSpPr>
            <p:cNvPr id="161" name=""/>
            <p:cNvGrpSpPr/>
            <p:nvPr/>
          </p:nvGrpSpPr>
          <p:grpSpPr>
            <a:xfrm>
              <a:off x="2855880" y="4887720"/>
              <a:ext cx="1106640" cy="1664640"/>
              <a:chOff x="2855880" y="4887720"/>
              <a:chExt cx="1106640" cy="1664640"/>
            </a:xfrm>
          </p:grpSpPr>
          <p:sp>
            <p:nvSpPr>
              <p:cNvPr id="162" name=""/>
              <p:cNvSpPr/>
              <p:nvPr/>
            </p:nvSpPr>
            <p:spPr>
              <a:xfrm>
                <a:off x="3045600" y="4887720"/>
                <a:ext cx="741240" cy="360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855880" y="5121720"/>
                <a:ext cx="1106640" cy="1430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856960" y="4887720"/>
                <a:ext cx="40716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510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106800" y="4140360"/>
              <a:ext cx="601560" cy="690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712880" y="4368960"/>
            <a:ext cx="1030320" cy="2183400"/>
            <a:chOff x="1712880" y="4368960"/>
            <a:chExt cx="1030320" cy="2183400"/>
          </a:xfrm>
        </p:grpSpPr>
        <p:grpSp>
          <p:nvGrpSpPr>
            <p:cNvPr id="168" name=""/>
            <p:cNvGrpSpPr/>
            <p:nvPr/>
          </p:nvGrpSpPr>
          <p:grpSpPr>
            <a:xfrm>
              <a:off x="1712880" y="5045760"/>
              <a:ext cx="1030320" cy="1506600"/>
              <a:chOff x="1712880" y="5045760"/>
              <a:chExt cx="1030320" cy="1506600"/>
            </a:xfrm>
          </p:grpSpPr>
          <p:sp>
            <p:nvSpPr>
              <p:cNvPr id="169" name=""/>
              <p:cNvSpPr/>
              <p:nvPr/>
            </p:nvSpPr>
            <p:spPr>
              <a:xfrm>
                <a:off x="1889640" y="5045760"/>
                <a:ext cx="690120" cy="3258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12880" y="5257440"/>
                <a:ext cx="1030320" cy="12949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13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36016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1946520" y="4368960"/>
              <a:ext cx="560160" cy="625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46200" y="4597560"/>
            <a:ext cx="877680" cy="1955160"/>
            <a:chOff x="646200" y="4597560"/>
            <a:chExt cx="877680" cy="1955160"/>
          </a:xfrm>
        </p:grpSpPr>
        <p:grpSp>
          <p:nvGrpSpPr>
            <p:cNvPr id="175" name=""/>
            <p:cNvGrpSpPr/>
            <p:nvPr/>
          </p:nvGrpSpPr>
          <p:grpSpPr>
            <a:xfrm>
              <a:off x="646200" y="5203440"/>
              <a:ext cx="877680" cy="1349280"/>
              <a:chOff x="646200" y="5203440"/>
              <a:chExt cx="877680" cy="1349280"/>
            </a:xfrm>
          </p:grpSpPr>
          <p:sp>
            <p:nvSpPr>
              <p:cNvPr id="176" name=""/>
              <p:cNvSpPr/>
              <p:nvPr/>
            </p:nvSpPr>
            <p:spPr>
              <a:xfrm>
                <a:off x="796680" y="5203440"/>
                <a:ext cx="587880" cy="291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6200" y="5393160"/>
                <a:ext cx="877680" cy="115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92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9736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844920" y="4597560"/>
              <a:ext cx="477000" cy="559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217840" y="4140360"/>
            <a:ext cx="1106280" cy="2412000"/>
            <a:chOff x="5217840" y="4140360"/>
            <a:chExt cx="1106280" cy="2412000"/>
          </a:xfrm>
        </p:grpSpPr>
        <p:grpSp>
          <p:nvGrpSpPr>
            <p:cNvPr id="182" name=""/>
            <p:cNvGrpSpPr/>
            <p:nvPr/>
          </p:nvGrpSpPr>
          <p:grpSpPr>
            <a:xfrm>
              <a:off x="5217840" y="4887720"/>
              <a:ext cx="1106280" cy="1664640"/>
              <a:chOff x="5217840" y="4887720"/>
              <a:chExt cx="1106280" cy="1664640"/>
            </a:xfrm>
          </p:grpSpPr>
          <p:sp>
            <p:nvSpPr>
              <p:cNvPr id="183" name=""/>
              <p:cNvSpPr/>
              <p:nvPr/>
            </p:nvSpPr>
            <p:spPr>
              <a:xfrm flipH="1">
                <a:off x="5392800" y="4887720"/>
                <a:ext cx="741240" cy="3600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5217480" y="5121720"/>
                <a:ext cx="1106280" cy="1430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5916240" y="4887720"/>
                <a:ext cx="40644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5219640" y="4890600"/>
                <a:ext cx="409320" cy="58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>
              <a:off x="5472360" y="4140360"/>
              <a:ext cx="601200" cy="6908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6437160" y="4368960"/>
            <a:ext cx="1030320" cy="2183400"/>
            <a:chOff x="6437160" y="4368960"/>
            <a:chExt cx="1030320" cy="2183400"/>
          </a:xfrm>
        </p:grpSpPr>
        <p:grpSp>
          <p:nvGrpSpPr>
            <p:cNvPr id="189" name=""/>
            <p:cNvGrpSpPr/>
            <p:nvPr/>
          </p:nvGrpSpPr>
          <p:grpSpPr>
            <a:xfrm>
              <a:off x="6437160" y="5045760"/>
              <a:ext cx="1030320" cy="1506600"/>
              <a:chOff x="6437160" y="5045760"/>
              <a:chExt cx="1030320" cy="150660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6600240" y="5045760"/>
                <a:ext cx="690120" cy="3258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437160" y="5257440"/>
                <a:ext cx="1030320" cy="12949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7086960" y="5045760"/>
                <a:ext cx="37908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6438600" y="5048280"/>
                <a:ext cx="381240" cy="52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 flipH="1">
              <a:off x="6673680" y="4368960"/>
              <a:ext cx="560160" cy="6253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656120" y="4597560"/>
            <a:ext cx="878040" cy="1955160"/>
            <a:chOff x="7656120" y="4597560"/>
            <a:chExt cx="878040" cy="1955160"/>
          </a:xfrm>
        </p:grpSpPr>
        <p:grpSp>
          <p:nvGrpSpPr>
            <p:cNvPr id="196" name=""/>
            <p:cNvGrpSpPr/>
            <p:nvPr/>
          </p:nvGrpSpPr>
          <p:grpSpPr>
            <a:xfrm>
              <a:off x="7656120" y="5203440"/>
              <a:ext cx="878040" cy="1349280"/>
              <a:chOff x="7656120" y="5203440"/>
              <a:chExt cx="878040" cy="134928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7795440" y="5203440"/>
                <a:ext cx="588240" cy="291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7655760" y="5393160"/>
                <a:ext cx="878040" cy="115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8210160" y="5203440"/>
                <a:ext cx="322920" cy="46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" y="10656"/>
                    </a:moveTo>
                    <a:arcTo wR="10800" hR="10800" stAng="-10754288" swAng="528134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" y="10656"/>
                    </a:moveTo>
                    <a:arcTo wR="10800" hR="10800" stAng="-10754288" swAng="5281349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7657200" y="5205960"/>
                <a:ext cx="32508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57" y="0"/>
                    </a:moveTo>
                    <a:arcTo wR="10800" hR="10800" stAng="-5381852" swAng="53510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57" y="0"/>
                    </a:moveTo>
                    <a:arcTo wR="10800" hR="10800" stAng="-5381852" swAng="5351007"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H="1">
              <a:off x="7857720" y="4597560"/>
              <a:ext cx="477360" cy="559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88600" y="304560"/>
            <a:ext cx="6172200" cy="1447560"/>
          </a:xfrm>
          <a:prstGeom prst="rect">
            <a:avLst/>
          </a:prstGeom>
          <a:solidFill>
            <a:srgbClr val="cc66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ls ont donné un nom très intéressant à ce virus.</a:t>
            </a:r>
            <a:br>
              <a:rPr sz="2800"/>
            </a:br>
            <a:r>
              <a:rPr b="1" lang="es-AR" sz="2800" spc="-1" strike="noStrike">
                <a:solidFill>
                  <a:srgbClr val="ffffff"/>
                </a:solidFill>
                <a:latin typeface="Arial"/>
              </a:rPr>
              <a:t>Il s’appelle ...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819520" y="1752480"/>
            <a:ext cx="3085920" cy="3962520"/>
            <a:chOff x="2819520" y="1752480"/>
            <a:chExt cx="3085920" cy="3962520"/>
          </a:xfrm>
        </p:grpSpPr>
        <p:sp>
          <p:nvSpPr>
            <p:cNvPr id="204" name=""/>
            <p:cNvSpPr/>
            <p:nvPr/>
          </p:nvSpPr>
          <p:spPr>
            <a:xfrm>
              <a:off x="3349800" y="3768840"/>
              <a:ext cx="2066760" cy="969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24200" y="3768840"/>
              <a:ext cx="1132920" cy="155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6"/>
                  </a:moveTo>
                  <a:arcTo wR="10800" hR="10800" stAng="-10754288" swAng="5281349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6"/>
                  </a:moveTo>
                  <a:arcTo wR="10800" hR="10800" stAng="-10754288" swAng="5281349"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57400" y="3776760"/>
              <a:ext cx="1143000" cy="156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57" y="0"/>
                  </a:moveTo>
                  <a:arcTo wR="10800" hR="10800" stAng="-5381852" swAng="53510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57" y="0"/>
                  </a:moveTo>
                  <a:arcTo wR="10800" hR="10800" stAng="-5381852" swAng="5351007"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819520" y="1752480"/>
              <a:ext cx="3085920" cy="3962520"/>
              <a:chOff x="2819520" y="1752480"/>
              <a:chExt cx="3085920" cy="3962520"/>
            </a:xfrm>
          </p:grpSpPr>
          <p:sp>
            <p:nvSpPr>
              <p:cNvPr id="208" name=""/>
              <p:cNvSpPr/>
              <p:nvPr/>
            </p:nvSpPr>
            <p:spPr>
              <a:xfrm>
                <a:off x="2819520" y="4398840"/>
                <a:ext cx="3085920" cy="1316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05320" y="1752480"/>
                <a:ext cx="1692000" cy="1981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3780000" y="2286000"/>
              <a:ext cx="1143000" cy="129528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62520" y="2209680"/>
              <a:ext cx="2286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95680" y="2209680"/>
              <a:ext cx="228600" cy="457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 txBox="1"/>
          <p:nvPr/>
        </p:nvSpPr>
        <p:spPr>
          <a:xfrm>
            <a:off x="1295280" y="3736800"/>
            <a:ext cx="6096240" cy="312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ff"/>
                    </a:gs>
                    <a:gs pos="50000">
                      <a:srgbClr val="ffff00"/>
                    </a:gs>
                    <a:gs pos="100000">
                      <a:srgbClr val="cc00ff"/>
                    </a:gs>
                  </a:gsLst>
                  <a:lin ang="10800000"/>
                </a:gradFill>
                <a:latin typeface="Impact"/>
              </a:rPr>
              <a:t>SOURIRE</a:t>
            </a:r>
            <a:endParaRPr b="0" lang="en-US" sz="2400" spc="1" strike="noStrike">
              <a:ln w="381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ff"/>
                  </a:gs>
                  <a:gs pos="50000">
                    <a:srgbClr val="ffff00"/>
                  </a:gs>
                  <a:gs pos="100000">
                    <a:srgbClr val="cc00ff"/>
                  </a:gs>
                </a:gsLst>
                <a:lin ang="10800000"/>
              </a:gradFill>
              <a:latin typeface="Impact"/>
              <a:ea typeface="Impact"/>
            </a:endParaRPr>
          </a:p>
        </p:txBody>
      </p:sp>
    </p:spTree>
  </p:cSld>
  <p:transition spd="med" advTm="2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219320" y="0"/>
            <a:ext cx="6476760" cy="685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286000" y="1600200"/>
            <a:ext cx="4375080" cy="4747680"/>
            <a:chOff x="2286000" y="1600200"/>
            <a:chExt cx="4375080" cy="4747680"/>
          </a:xfrm>
        </p:grpSpPr>
        <p:sp>
          <p:nvSpPr>
            <p:cNvPr id="216" name=""/>
            <p:cNvSpPr/>
            <p:nvPr/>
          </p:nvSpPr>
          <p:spPr>
            <a:xfrm flipV="1">
              <a:off x="2286000" y="1863360"/>
              <a:ext cx="4375080" cy="448416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84400" y="1600200"/>
              <a:ext cx="874800" cy="1582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25960" y="1600200"/>
              <a:ext cx="874800" cy="15825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OH NO! </a:t>
            </a:r>
            <a:br>
              <a:rPr sz="4800"/>
            </a:br>
            <a:r>
              <a:rPr b="0" lang="es-AR" sz="4800" spc="-1" strike="noStrike">
                <a:solidFill>
                  <a:srgbClr val="ffffff"/>
                </a:solidFill>
                <a:latin typeface="Arial Black"/>
              </a:rPr>
              <a:t>Trop tard !!! 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1600" y="4579920"/>
            <a:ext cx="66294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0066"/>
                </a:solidFill>
                <a:latin typeface="Arial"/>
              </a:rPr>
              <a:t>Tu l’as déjà attrapé !!!!</a:t>
            </a:r>
            <a:br>
              <a:rPr sz="44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ff0066"/>
                </a:solidFill>
                <a:latin typeface="Arial Black"/>
              </a:rPr>
              <a:t>¡ALERTE!</a:t>
            </a:r>
            <a:endParaRPr b="0" lang="en-US" sz="9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038480" y="-304920"/>
            <a:ext cx="3656880" cy="4038120"/>
            <a:chOff x="4038480" y="-304920"/>
            <a:chExt cx="3656880" cy="4038120"/>
          </a:xfrm>
        </p:grpSpPr>
        <p:sp>
          <p:nvSpPr>
            <p:cNvPr id="223" name=""/>
            <p:cNvSpPr/>
            <p:nvPr/>
          </p:nvSpPr>
          <p:spPr>
            <a:xfrm>
              <a:off x="4038480" y="-304920"/>
              <a:ext cx="3656880" cy="4038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632120" y="781200"/>
              <a:ext cx="2470320" cy="263988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26680" y="626760"/>
              <a:ext cx="493920" cy="93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9040" y="626760"/>
              <a:ext cx="493920" cy="93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952880" y="2514600"/>
            <a:ext cx="4190400" cy="4342680"/>
            <a:chOff x="4952880" y="2514600"/>
            <a:chExt cx="4190400" cy="4342680"/>
          </a:xfrm>
        </p:grpSpPr>
        <p:sp>
          <p:nvSpPr>
            <p:cNvPr id="228" name=""/>
            <p:cNvSpPr/>
            <p:nvPr/>
          </p:nvSpPr>
          <p:spPr>
            <a:xfrm>
              <a:off x="4952880" y="2514600"/>
              <a:ext cx="4190400" cy="4342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632920" y="3683880"/>
              <a:ext cx="2830680" cy="283896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85080" y="3516480"/>
              <a:ext cx="565920" cy="10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05560" y="3516480"/>
              <a:ext cx="565920" cy="10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1447920"/>
            <a:ext cx="3885480" cy="3961800"/>
            <a:chOff x="1523880" y="1447920"/>
            <a:chExt cx="3885480" cy="3961800"/>
          </a:xfrm>
        </p:grpSpPr>
        <p:sp>
          <p:nvSpPr>
            <p:cNvPr id="233" name=""/>
            <p:cNvSpPr/>
            <p:nvPr/>
          </p:nvSpPr>
          <p:spPr>
            <a:xfrm>
              <a:off x="1523880" y="1447920"/>
              <a:ext cx="3885480" cy="3961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154600" y="2514600"/>
              <a:ext cx="2624760" cy="258984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73640" y="2361960"/>
              <a:ext cx="5248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98000" y="2361960"/>
              <a:ext cx="5248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095880" y="0"/>
            <a:ext cx="3047760" cy="3352320"/>
            <a:chOff x="6095880" y="0"/>
            <a:chExt cx="3047760" cy="3352320"/>
          </a:xfrm>
        </p:grpSpPr>
        <p:sp>
          <p:nvSpPr>
            <p:cNvPr id="238" name=""/>
            <p:cNvSpPr/>
            <p:nvPr/>
          </p:nvSpPr>
          <p:spPr>
            <a:xfrm>
              <a:off x="6095880" y="0"/>
              <a:ext cx="3047760" cy="335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6590520" y="901440"/>
              <a:ext cx="2058840" cy="21913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1920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7968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7848720" y="2590920"/>
            <a:ext cx="1295280" cy="1295280"/>
            <a:chOff x="7848720" y="2590920"/>
            <a:chExt cx="1295280" cy="1295280"/>
          </a:xfrm>
        </p:grpSpPr>
        <p:sp>
          <p:nvSpPr>
            <p:cNvPr id="243" name=""/>
            <p:cNvSpPr/>
            <p:nvPr/>
          </p:nvSpPr>
          <p:spPr>
            <a:xfrm>
              <a:off x="7848720" y="25909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8058960" y="29394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9864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0688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0" y="0"/>
            <a:ext cx="3047760" cy="3352320"/>
            <a:chOff x="0" y="0"/>
            <a:chExt cx="3047760" cy="3352320"/>
          </a:xfrm>
        </p:grpSpPr>
        <p:sp>
          <p:nvSpPr>
            <p:cNvPr id="248" name=""/>
            <p:cNvSpPr/>
            <p:nvPr/>
          </p:nvSpPr>
          <p:spPr>
            <a:xfrm>
              <a:off x="0" y="0"/>
              <a:ext cx="3047760" cy="335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94640" y="901440"/>
              <a:ext cx="2058840" cy="21913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332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83800" y="773280"/>
              <a:ext cx="411480" cy="77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971800" y="4114800"/>
            <a:ext cx="2590560" cy="2742840"/>
            <a:chOff x="2971800" y="4114800"/>
            <a:chExt cx="2590560" cy="2742840"/>
          </a:xfrm>
        </p:grpSpPr>
        <p:sp>
          <p:nvSpPr>
            <p:cNvPr id="253" name=""/>
            <p:cNvSpPr/>
            <p:nvPr/>
          </p:nvSpPr>
          <p:spPr>
            <a:xfrm>
              <a:off x="2971800" y="4114800"/>
              <a:ext cx="2590560" cy="2742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392280" y="4853160"/>
              <a:ext cx="1749960" cy="17928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71640" y="4747680"/>
              <a:ext cx="34992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88120" y="4747680"/>
              <a:ext cx="34992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438280" y="0"/>
            <a:ext cx="2133360" cy="2361960"/>
            <a:chOff x="2438280" y="0"/>
            <a:chExt cx="2133360" cy="2361960"/>
          </a:xfrm>
        </p:grpSpPr>
        <p:sp>
          <p:nvSpPr>
            <p:cNvPr id="258" name=""/>
            <p:cNvSpPr/>
            <p:nvPr/>
          </p:nvSpPr>
          <p:spPr>
            <a:xfrm>
              <a:off x="2438280" y="0"/>
              <a:ext cx="2133360" cy="2361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784600" y="634680"/>
              <a:ext cx="1441080" cy="154404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4640" y="545040"/>
              <a:ext cx="288000" cy="54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87120" y="545040"/>
              <a:ext cx="288000" cy="545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0" y="4114800"/>
            <a:ext cx="2514240" cy="2742840"/>
            <a:chOff x="0" y="4114800"/>
            <a:chExt cx="2514240" cy="2742840"/>
          </a:xfrm>
        </p:grpSpPr>
        <p:sp>
          <p:nvSpPr>
            <p:cNvPr id="263" name=""/>
            <p:cNvSpPr/>
            <p:nvPr/>
          </p:nvSpPr>
          <p:spPr>
            <a:xfrm>
              <a:off x="0" y="4114800"/>
              <a:ext cx="2514240" cy="2742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07880" y="4853160"/>
              <a:ext cx="1698480" cy="17928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9320" y="4747680"/>
              <a:ext cx="33948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71680" y="4747680"/>
              <a:ext cx="339480" cy="632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0" y="2666880"/>
            <a:ext cx="1752120" cy="1752840"/>
            <a:chOff x="0" y="2666880"/>
            <a:chExt cx="1752120" cy="1752840"/>
          </a:xfrm>
        </p:grpSpPr>
        <p:sp>
          <p:nvSpPr>
            <p:cNvPr id="268" name=""/>
            <p:cNvSpPr/>
            <p:nvPr/>
          </p:nvSpPr>
          <p:spPr>
            <a:xfrm>
              <a:off x="0" y="2666880"/>
              <a:ext cx="1752120" cy="1752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84400" y="3138840"/>
              <a:ext cx="1183680" cy="11455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3400" y="307116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25640" y="307116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828800" y="5105520"/>
            <a:ext cx="1752120" cy="1752480"/>
            <a:chOff x="1828800" y="5105520"/>
            <a:chExt cx="1752120" cy="1752480"/>
          </a:xfrm>
        </p:grpSpPr>
        <p:sp>
          <p:nvSpPr>
            <p:cNvPr id="273" name=""/>
            <p:cNvSpPr/>
            <p:nvPr/>
          </p:nvSpPr>
          <p:spPr>
            <a:xfrm>
              <a:off x="1828800" y="5105520"/>
              <a:ext cx="1752120" cy="1752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113200" y="5577120"/>
              <a:ext cx="1183680" cy="11455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2200" y="550980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54440" y="5509800"/>
              <a:ext cx="236520" cy="404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876920" y="5562720"/>
            <a:ext cx="1295280" cy="1295280"/>
            <a:chOff x="4876920" y="5562720"/>
            <a:chExt cx="1295280" cy="1295280"/>
          </a:xfrm>
        </p:grpSpPr>
        <p:sp>
          <p:nvSpPr>
            <p:cNvPr id="278" name=""/>
            <p:cNvSpPr/>
            <p:nvPr/>
          </p:nvSpPr>
          <p:spPr>
            <a:xfrm>
              <a:off x="4876920" y="55627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087160" y="591120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2684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5080" y="58615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0" y="0"/>
            <a:ext cx="1295280" cy="1295280"/>
            <a:chOff x="0" y="0"/>
            <a:chExt cx="1295280" cy="1295280"/>
          </a:xfrm>
        </p:grpSpPr>
        <p:sp>
          <p:nvSpPr>
            <p:cNvPr id="283" name=""/>
            <p:cNvSpPr/>
            <p:nvPr/>
          </p:nvSpPr>
          <p:spPr>
            <a:xfrm>
              <a:off x="0" y="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10240" y="348120"/>
              <a:ext cx="87480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992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8160" y="29880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8305920" y="5935680"/>
            <a:ext cx="838080" cy="922320"/>
            <a:chOff x="8305920" y="5935680"/>
            <a:chExt cx="838080" cy="922320"/>
          </a:xfrm>
        </p:grpSpPr>
        <p:sp>
          <p:nvSpPr>
            <p:cNvPr id="288" name=""/>
            <p:cNvSpPr/>
            <p:nvPr/>
          </p:nvSpPr>
          <p:spPr>
            <a:xfrm>
              <a:off x="8305920" y="5935680"/>
              <a:ext cx="838080" cy="92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8442000" y="6183000"/>
              <a:ext cx="565920" cy="603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532360" y="614844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796240" y="614844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305920" y="0"/>
            <a:ext cx="838080" cy="922320"/>
            <a:chOff x="8305920" y="0"/>
            <a:chExt cx="838080" cy="922320"/>
          </a:xfrm>
        </p:grpSpPr>
        <p:sp>
          <p:nvSpPr>
            <p:cNvPr id="293" name=""/>
            <p:cNvSpPr/>
            <p:nvPr/>
          </p:nvSpPr>
          <p:spPr>
            <a:xfrm>
              <a:off x="8305920" y="0"/>
              <a:ext cx="838080" cy="922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8442000" y="246960"/>
              <a:ext cx="565920" cy="603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32360" y="21276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96240" y="212760"/>
              <a:ext cx="113040" cy="212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838080" y="37339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66"/>
                </a:solidFill>
                <a:latin typeface="Arial"/>
              </a:rPr>
              <a:t>Tu as été contaminé par une personne qui t’aime bien 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66"/>
                </a:solidFill>
                <a:latin typeface="Arial Black"/>
              </a:rPr>
              <a:t>Je te souhaite ..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838080" y="1295280"/>
            <a:ext cx="1295640" cy="1295640"/>
            <a:chOff x="838080" y="1295280"/>
            <a:chExt cx="1295640" cy="1295640"/>
          </a:xfrm>
        </p:grpSpPr>
        <p:sp>
          <p:nvSpPr>
            <p:cNvPr id="300" name=""/>
            <p:cNvSpPr/>
            <p:nvPr/>
          </p:nvSpPr>
          <p:spPr>
            <a:xfrm>
              <a:off x="838080" y="1295280"/>
              <a:ext cx="129564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048320" y="164412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88000" y="1594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96240" y="1594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286000" y="1295280"/>
            <a:ext cx="6858000" cy="121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66"/>
                </a:solidFill>
                <a:latin typeface="Arial"/>
              </a:rPr>
              <a:t>Des sourires quand la tristesse t’envah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048120"/>
            <a:ext cx="6781680" cy="1295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66"/>
                </a:solidFill>
                <a:latin typeface="Arial Black"/>
              </a:rPr>
              <a:t>Des Arc-en-Ciel pour monter aux nuages,</a:t>
            </a:r>
            <a:br>
              <a:rPr sz="2400"/>
            </a:br>
            <a:r>
              <a:rPr b="0" lang="es-AR" sz="2800" spc="-1" strike="noStrike">
                <a:solidFill>
                  <a:srgbClr val="000066"/>
                </a:solidFill>
                <a:latin typeface="Arial"/>
              </a:rPr>
              <a:t>Des rires qui illuminent tes lèvr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800600"/>
            <a:ext cx="6781680" cy="129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66"/>
                </a:solidFill>
                <a:latin typeface="Arial"/>
              </a:rPr>
              <a:t>Du reconfort quand t’as pas le moral</a:t>
            </a:r>
            <a:r>
              <a:rPr b="0" lang="es-AR" sz="3200" spc="-1" strike="noStrike">
                <a:solidFill>
                  <a:srgbClr val="000066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7086600" y="3048120"/>
            <a:ext cx="1295280" cy="1295280"/>
            <a:chOff x="7086600" y="3048120"/>
            <a:chExt cx="1295280" cy="1295280"/>
          </a:xfrm>
        </p:grpSpPr>
        <p:sp>
          <p:nvSpPr>
            <p:cNvPr id="308" name=""/>
            <p:cNvSpPr/>
            <p:nvPr/>
          </p:nvSpPr>
          <p:spPr>
            <a:xfrm>
              <a:off x="7086600" y="304812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295760" y="339732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35440" y="334656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45120" y="334656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838080" y="4724280"/>
            <a:ext cx="1295640" cy="1295640"/>
            <a:chOff x="838080" y="4724280"/>
            <a:chExt cx="1295640" cy="1295640"/>
          </a:xfrm>
        </p:grpSpPr>
        <p:sp>
          <p:nvSpPr>
            <p:cNvPr id="313" name=""/>
            <p:cNvSpPr/>
            <p:nvPr/>
          </p:nvSpPr>
          <p:spPr>
            <a:xfrm>
              <a:off x="838080" y="4724280"/>
              <a:ext cx="1295640" cy="1295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048320" y="507312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8000" y="5023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96240" y="502308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 flipH="1">
            <a:off x="-720" y="609480"/>
            <a:ext cx="7162920" cy="1219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Arial"/>
              </a:rPr>
              <a:t>Des amis qui illuminent ta vie, </a:t>
            </a:r>
            <a:br>
              <a:rPr sz="2800"/>
            </a:br>
            <a:r>
              <a:rPr b="0" lang="es-AR" sz="2800" spc="-1" strike="noStrike">
                <a:solidFill>
                  <a:srgbClr val="000066"/>
                </a:solidFill>
                <a:latin typeface="Arial"/>
              </a:rPr>
              <a:t>Des belles choses que tes yeux puissent admir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209680" y="2286000"/>
            <a:ext cx="6934320" cy="18288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0066"/>
                </a:solidFill>
                <a:latin typeface="Arial"/>
              </a:rPr>
              <a:t>Confiance quand tu as des dout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56480" y="4800600"/>
            <a:ext cx="6248520" cy="15238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0066"/>
                </a:solidFill>
                <a:latin typeface="Arial Black"/>
              </a:rPr>
              <a:t>Courage pour te connaître à toi-même, </a:t>
            </a:r>
            <a:r>
              <a:rPr b="0" lang="es-AR" sz="2800" spc="-1" strike="noStrike">
                <a:solidFill>
                  <a:srgbClr val="000066"/>
                </a:solidFill>
                <a:latin typeface="Arial"/>
              </a:rPr>
              <a:t>patience pour accepter la réalité, et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7391520" y="609480"/>
            <a:ext cx="1295280" cy="1295280"/>
            <a:chOff x="7391520" y="609480"/>
            <a:chExt cx="1295280" cy="1295280"/>
          </a:xfrm>
        </p:grpSpPr>
        <p:sp>
          <p:nvSpPr>
            <p:cNvPr id="321" name=""/>
            <p:cNvSpPr/>
            <p:nvPr/>
          </p:nvSpPr>
          <p:spPr>
            <a:xfrm>
              <a:off x="7391520" y="609480"/>
              <a:ext cx="129528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7600680" y="958680"/>
              <a:ext cx="87624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40360" y="907920"/>
              <a:ext cx="1760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150040" y="907920"/>
              <a:ext cx="17424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09480" y="2590920"/>
            <a:ext cx="1295640" cy="1295280"/>
            <a:chOff x="609480" y="2590920"/>
            <a:chExt cx="1295640" cy="1295280"/>
          </a:xfrm>
        </p:grpSpPr>
        <p:sp>
          <p:nvSpPr>
            <p:cNvPr id="326" name=""/>
            <p:cNvSpPr/>
            <p:nvPr/>
          </p:nvSpPr>
          <p:spPr>
            <a:xfrm>
              <a:off x="609480" y="259092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819720" y="2939400"/>
              <a:ext cx="875160" cy="8467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5940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67640" y="2889720"/>
              <a:ext cx="174960" cy="298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7467480" y="4952880"/>
            <a:ext cx="1295640" cy="1295280"/>
            <a:chOff x="7467480" y="4952880"/>
            <a:chExt cx="1295640" cy="1295280"/>
          </a:xfrm>
        </p:grpSpPr>
        <p:sp>
          <p:nvSpPr>
            <p:cNvPr id="331" name=""/>
            <p:cNvSpPr/>
            <p:nvPr/>
          </p:nvSpPr>
          <p:spPr>
            <a:xfrm>
              <a:off x="7467480" y="4952880"/>
              <a:ext cx="1295640" cy="1295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66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7677000" y="5302080"/>
              <a:ext cx="876600" cy="84600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16680" y="5251320"/>
              <a:ext cx="1764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226360" y="5251320"/>
              <a:ext cx="174600" cy="29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2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cce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975040" y="1752480"/>
            <a:ext cx="3200400" cy="2895840"/>
          </a:xfrm>
          <a:custGeom>
            <a:avLst/>
            <a:gdLst>
              <a:gd name="textAreaLeft" fmla="*/ 752040 w 3200400"/>
              <a:gd name="textAreaRight" fmla="*/ 2446200 w 3200400"/>
              <a:gd name="textAreaTop" fmla="*/ 340200 h 2895840"/>
              <a:gd name="textAreaBottom" fmla="*/ 1816560 h 2895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67120" y="2209680"/>
            <a:ext cx="1412640" cy="1752120"/>
            <a:chOff x="3867120" y="2209680"/>
            <a:chExt cx="1412640" cy="1752120"/>
          </a:xfrm>
        </p:grpSpPr>
        <p:sp>
          <p:nvSpPr>
            <p:cNvPr id="337" name=""/>
            <p:cNvSpPr/>
            <p:nvPr/>
          </p:nvSpPr>
          <p:spPr>
            <a:xfrm flipH="1" flipV="1">
              <a:off x="3867120" y="2308680"/>
              <a:ext cx="1412640" cy="1653120"/>
            </a:xfrm>
            <a:prstGeom prst="blockArc">
              <a:avLst>
                <a:gd name="adj1" fmla="val 11112085"/>
                <a:gd name="adj2" fmla="val 21287915"/>
                <a:gd name="adj3" fmla="val 537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769640" y="2209680"/>
              <a:ext cx="284040" cy="58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112280" y="2209680"/>
              <a:ext cx="281160" cy="585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 txBox="1"/>
          <p:nvPr/>
        </p:nvSpPr>
        <p:spPr>
          <a:xfrm>
            <a:off x="1108080" y="609480"/>
            <a:ext cx="6934320" cy="624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768373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latin typeface="Arial Black"/>
              </a:rPr>
              <a:t>Je te souhaite une merveilleuse journé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1984320" y="4952880"/>
            <a:ext cx="5181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66"/>
                </a:solidFill>
                <a:latin typeface="Arial Black"/>
              </a:rPr>
              <a:t>Beaucoup d’AMOUR à donn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LEBEC</cp:lastModifiedBy>
  <dcterms:modified xsi:type="dcterms:W3CDTF">2002-02-01T03:40:55Z</dcterms:modified>
  <cp:revision>1</cp:revision>
  <dc:subject/>
  <dc:title>A annoncé qu’un nouveau virus a été récemment découvert... </dc:title>
</cp:coreProperties>
</file>