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F89-3EAF-4FD6-9C69-3E65CC47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271-6635-4621-B8D5-16888083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AE9-8E27-4C9C-AA15-6475E9CA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1C4-D8D9-4128-9FC3-3623B112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E69-58A6-45D4-AA95-DA72BE1D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9BC-9DE5-434B-A23E-95832C36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3AB-C7A3-4225-9031-5A7A489D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03C-A6E6-48F3-ABAE-62102F15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305-4F50-4B6B-851A-051A7DD4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2F4-C8D2-4658-B0EF-F5B5DB45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8FE-AA57-4A85-AB8E-0328CAA0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3F3-021E-45C6-9615-18FD931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7FCF-A5DC-4094-988B-5A13A2810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INTER GALLAC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ONJOUR CHER ETRE HU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19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JE ME PRESENTE : JE SUIS UN EXTRAT TERRESTRE VENANT DE LA CONSTELLATION QUE VOUS APPELEZ O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09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OUR PASSER INAPERCU, JE ME SUIS DEGUISE EN E-MAIL ET ACTUELLEMENT J’AI UNE RELATION SEXUELLE AVEC TES GLOBES OCUL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JE SAIS QUE TU AIMES CA PUISQUE TU ME SOU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INTENANT TU RIS, C’EST DONC QUE TU AS EU UN ORGA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ALORS, PASSE MOI VITE A TON VOISIN CAR JE SUIS ENCORE TOUT EX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67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 BIENT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CE FUT UN PLAISIR POUR MOI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6400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I-JOINT MA PH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4:00:02Z</dcterms:created>
  <dc:creator/>
  <dc:description/>
  <dc:language>en-US</dc:language>
  <cp:lastModifiedBy>TELEBEC</cp:lastModifiedBy>
  <dcterms:modified xsi:type="dcterms:W3CDTF">2001-11-29T17:45:21Z</dcterms:modified>
  <cp:revision>3</cp:revision>
  <dc:subject/>
  <dc:title>Présentation PowerPoint</dc:title>
</cp:coreProperties>
</file>