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AD23-EE92-403D-B07B-6498CE2D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DEE-8F04-42AE-A4D4-F7C4E59F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706-770C-4612-8BA1-C2C8011B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3586-A90C-4080-BBF9-DF82396B3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42F-6B65-481D-9EA9-1B647C82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60B-6005-4FCA-8FA8-2D3FBE40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2DC-DE6A-4A57-B816-B62553DB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029-C8D9-4DED-B610-A7CBBC85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8BE-4BB3-48E7-9BDC-16876719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4CC-35F2-40EA-9DF9-A31B477B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0660-1DAF-4BC2-BB35-BB080BA1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037-32CE-46E7-AAE6-A11F65AA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2257-ACE0-490D-8F82-1D849004B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48200" cy="394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01080" y="380880"/>
            <a:ext cx="784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 tournée des pubs avec les copains........................................60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as mal de téquilas ....................................................................50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petit joint avec tes amis ........................................................12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35680" y="5715000"/>
            <a:ext cx="73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 rendre compte que t‘as perdu conscience dans la rue et p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s ton lit .................................. ça n‘a pas de prix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57680" y="380880"/>
            <a:ext cx="750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joli costume noir ............................................................ 125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 cocktails pour tes copines  ...........................................  45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petit appareil photo jetable  ............................................  15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5400" y="5715000"/>
            <a:ext cx="687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 rendre compte que l‘on peut voir sur la photo que tu n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rtes pas de slip............................ Ça n‘a pas de prix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4100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9920" y="304920"/>
            <a:ext cx="750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repas chez McDo ...........................................................   6$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taxi pour aller au bal ....................…...............................  11$,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e bouteille de vin super bon marché ...............................  $5,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67880" y="5715000"/>
            <a:ext cx="731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 rendre compte qu‘ils t‘ont pris la photo avec la main dans 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lip de ta copine.......................... Ça n‘a pas de prix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43200" y="1523880"/>
            <a:ext cx="4057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4960" y="380880"/>
            <a:ext cx="803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Livre ‚‘‘1001 méthodes pour draguer une nana“ .................   $12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e entrée dans une boite .........................................................    $8,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 boissons pour toi et ta nouvelle connaissance ...................  $35,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0640" y="5715000"/>
            <a:ext cx="707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 rendre compte qu‘ils ont pris la photo pendant que t`ét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 train de tester la méthode 356 ..........…ça n‘a pas de prix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819520" y="1447920"/>
            <a:ext cx="3673440" cy="40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3160" y="380880"/>
            <a:ext cx="833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 fleurs pour l‘anniversaire de ta copine...................................   20$,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 bon parfum pour elle  ...............................................................  40$,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e nouvelle serrure pour sa chambre à coucher.........................    2$,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78120" y="5867280"/>
            <a:ext cx="71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 rendre compte que cette maudite serrure ne sert à rien .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……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ça n‘a pas de prix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371600" y="1447920"/>
            <a:ext cx="6477120" cy="43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24680" y="1676520"/>
            <a:ext cx="79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l y a des choses que l‘on ne peut pas acheter. Pour tout le res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l y a MASTERCA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0" t="21495" r="0" b="0"/>
          <a:stretch/>
        </p:blipFill>
        <p:spPr>
          <a:xfrm>
            <a:off x="3995640" y="3284640"/>
            <a:ext cx="1411560" cy="81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09:28:31Z</dcterms:created>
  <dc:creator>Chaos 4711</dc:creator>
  <dc:description/>
  <dc:language>en-US</dc:language>
  <cp:lastModifiedBy>TELEBEC</cp:lastModifiedBy>
  <dcterms:modified xsi:type="dcterms:W3CDTF">2002-03-26T05:27:11Z</dcterms:modified>
  <cp:revision>13</cp:revision>
  <dc:subject/>
  <dc:title>Kein Folientitel</dc:title>
</cp:coreProperties>
</file>