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A76-11BF-47C1-A6BB-B3A4E581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7D3-F8E7-446A-B6A4-78D48361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53E-EEFE-45B4-99AC-F9091778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372-4346-447B-A6CB-CFA0FCD5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202-3670-477B-B4EC-17F09639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B27-8C83-44FE-BB83-44EDC8C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9A5-18A7-4620-8CBD-DD2524DA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FC-A8AE-456F-9939-FB60259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758-9475-47E3-BCEA-6E98E680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95A-31F7-4858-84D3-A211C47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D9B-39B0-4A99-BE33-71A90ED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A41-8808-465A-9B60-E9F54976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963C-13C8-43B5-80EB-5857BBACE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09960" y="1981080"/>
            <a:ext cx="31240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  <a:ea typeface="굴림"/>
              </a:rPr>
              <a:t>Petit livre bleu à l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  <a:ea typeface="굴림"/>
              </a:rPr>
              <a:t>les jours de b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dymocks-au_1644_7561136" descr=""/>
          <p:cNvPicPr/>
          <p:nvPr/>
        </p:nvPicPr>
        <p:blipFill>
          <a:blip r:embed="rId1"/>
          <a:stretch/>
        </p:blipFill>
        <p:spPr>
          <a:xfrm>
            <a:off x="3684600" y="2908440"/>
            <a:ext cx="1763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lue_12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2502000" cy="381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va parfois mê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jusqu’à se ronger les ongl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ue_13" descr=""/>
          <p:cNvPicPr/>
          <p:nvPr/>
        </p:nvPicPr>
        <p:blipFill>
          <a:blip r:embed="rId1"/>
          <a:stretch/>
        </p:blipFill>
        <p:spPr>
          <a:xfrm>
            <a:off x="5029200" y="1790640"/>
            <a:ext cx="317484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2805120"/>
            <a:ext cx="3962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u sérieusement ab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u gâteau au chocolat double crè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lue_7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29200" y="2062080"/>
            <a:ext cx="2857680" cy="2732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2805120"/>
            <a:ext cx="38098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ais comment retrouver cette délicieuse sensation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omme si on se glissa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ans un bain chaud et parfumé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lue_75" descr=""/>
          <p:cNvPicPr/>
          <p:nvPr/>
        </p:nvPicPr>
        <p:blipFill>
          <a:blip r:embed="rId1"/>
          <a:stretch/>
        </p:blipFill>
        <p:spPr>
          <a:xfrm>
            <a:off x="5029200" y="2050920"/>
            <a:ext cx="2857680" cy="275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’est facile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lue_76" descr=""/>
          <p:cNvPicPr/>
          <p:nvPr/>
        </p:nvPicPr>
        <p:blipFill>
          <a:blip r:embed="rId1"/>
          <a:stretch/>
        </p:blipFill>
        <p:spPr>
          <a:xfrm>
            <a:off x="5029200" y="2360520"/>
            <a:ext cx="2857680" cy="2136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805120"/>
            <a:ext cx="4191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’abord, il faut cesser de fuir tous les problè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qui nous poursuivent et suivre le rythme de la musiqu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lue_77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86848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2805120"/>
            <a:ext cx="4038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uis se relaxer… respirer à f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inspirer par le nez… expirer par la bouche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éditer si vous le pou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lue_78" descr=""/>
          <p:cNvPicPr/>
          <p:nvPr/>
        </p:nvPicPr>
        <p:blipFill>
          <a:blip r:embed="rId1"/>
          <a:stretch/>
        </p:blipFill>
        <p:spPr>
          <a:xfrm>
            <a:off x="5029200" y="2022480"/>
            <a:ext cx="2857680" cy="281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u aller faire une longue prome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our se libérer l’espri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ue_79" descr=""/>
          <p:cNvPicPr/>
          <p:nvPr/>
        </p:nvPicPr>
        <p:blipFill>
          <a:blip r:embed="rId1"/>
          <a:stretch/>
        </p:blipFill>
        <p:spPr>
          <a:xfrm>
            <a:off x="5029200" y="2004840"/>
            <a:ext cx="2857680" cy="2846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Accepter le fait qu’il faudra bien renonc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à certaines émotions ancienn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lue_80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13660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Essayer de voir les cho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ous un angle nouveau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lue_8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029200" y="2079720"/>
            <a:ext cx="2857680" cy="2697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2805120"/>
            <a:ext cx="40384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eut-être faites-vous partie du problème, et si c’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e cas, soyez assez brave pour savo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emander pardon, aux autres ou à vous-mê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il n’est jamais trop tard pour le fa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lue_1" descr=""/>
          <p:cNvPicPr/>
          <p:nvPr/>
        </p:nvPicPr>
        <p:blipFill>
          <a:blip r:embed="rId1"/>
          <a:stretch/>
        </p:blipFill>
        <p:spPr>
          <a:xfrm>
            <a:off x="5029200" y="1911240"/>
            <a:ext cx="3035160" cy="303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8051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a tous des jours de blu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lue_82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05120"/>
            <a:ext cx="43434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i un autre vous traite mal, levez-vous et dites bien fo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’est faux et injuste et je ne le tolérerai pas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l n’y a pas de honte à affirmer clairement ce dont on est sû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lue_83" descr=""/>
          <p:cNvPicPr/>
          <p:nvPr/>
        </p:nvPicPr>
        <p:blipFill>
          <a:blip r:embed="rId1"/>
          <a:stretch/>
        </p:blipFill>
        <p:spPr>
          <a:xfrm>
            <a:off x="5029200" y="1947960"/>
            <a:ext cx="2857680" cy="296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lui faire des grimaces n’est sans do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s utile, mais si ça vous fait du bie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lue_84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70828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oyez fier de qui vous ête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lue_85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85768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ais surtout sans perdre le d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e rire de vous-mê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lue_86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2805120"/>
            <a:ext cx="373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c’est plus facile à faire qu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fréqente des gens à l’esprit posit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lue_87" descr=""/>
          <p:cNvPicPr/>
          <p:nvPr/>
        </p:nvPicPr>
        <p:blipFill>
          <a:blip r:embed="rId1"/>
          <a:stretch/>
        </p:blipFill>
        <p:spPr>
          <a:xfrm>
            <a:off x="5029200" y="1936800"/>
            <a:ext cx="2857680" cy="298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2805120"/>
            <a:ext cx="358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Vivez chaque jour comme si c’était votre dernier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rce qu’un jour ça le s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lue_88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N’ayez pas peur de vous lancer dans 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entreprises impressionnan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lue_89" descr=""/>
          <p:cNvPicPr/>
          <p:nvPr/>
        </p:nvPicPr>
        <p:blipFill>
          <a:blip r:embed="rId1"/>
          <a:stretch/>
        </p:blipFill>
        <p:spPr>
          <a:xfrm>
            <a:off x="5029200" y="1890720"/>
            <a:ext cx="2857680" cy="307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renez des risque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ême des g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lue_90" descr=""/>
          <p:cNvPicPr/>
          <p:nvPr/>
        </p:nvPicPr>
        <p:blipFill>
          <a:blip r:embed="rId1"/>
          <a:stretch/>
        </p:blipFill>
        <p:spPr>
          <a:xfrm>
            <a:off x="5029200" y="2039760"/>
            <a:ext cx="2857680" cy="277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N’hésitez jamai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ancez-vou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lue_91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62908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Au fond, n’est-ce pas de tout ç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que notre vie est fait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lue_2" descr=""/>
          <p:cNvPicPr/>
          <p:nvPr/>
        </p:nvPicPr>
        <p:blipFill>
          <a:blip r:embed="rId1"/>
          <a:stretch/>
        </p:blipFill>
        <p:spPr>
          <a:xfrm>
            <a:off x="5029200" y="2114640"/>
            <a:ext cx="2857680" cy="262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es jours où on se s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triste et misérabl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lue_92" descr=""/>
          <p:cNvPicPr/>
          <p:nvPr/>
        </p:nvPicPr>
        <p:blipFill>
          <a:blip r:embed="rId1"/>
          <a:stretch/>
        </p:blipFill>
        <p:spPr>
          <a:xfrm>
            <a:off x="5029200" y="2068560"/>
            <a:ext cx="2857680" cy="2720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ui, je le pense aussi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ue_3" descr=""/>
          <p:cNvPicPr/>
          <p:nvPr/>
        </p:nvPicPr>
        <p:blipFill>
          <a:blip r:embed="rId1"/>
          <a:stretch/>
        </p:blipFill>
        <p:spPr>
          <a:xfrm>
            <a:off x="5029200" y="1771560"/>
            <a:ext cx="2857680" cy="331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Grincheux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ue_4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u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lue_5" descr=""/>
          <p:cNvPicPr/>
          <p:nvPr/>
        </p:nvPicPr>
        <p:blipFill>
          <a:blip r:embed="rId1"/>
          <a:stretch/>
        </p:blipFill>
        <p:spPr>
          <a:xfrm>
            <a:off x="5029200" y="2000160"/>
            <a:ext cx="274320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.et complètement épuis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lue_9" descr=""/>
          <p:cNvPicPr/>
          <p:nvPr/>
        </p:nvPicPr>
        <p:blipFill>
          <a:blip r:embed="rId1"/>
          <a:stretch/>
        </p:blipFill>
        <p:spPr>
          <a:xfrm>
            <a:off x="5029200" y="200016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e simple fait de se l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raît impos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ue_10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2819520" cy="381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2805120"/>
            <a:ext cx="4038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es jours de blues, on a l’impr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que tout le monde nous en ve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lue_11" descr=""/>
          <p:cNvPicPr/>
          <p:nvPr/>
        </p:nvPicPr>
        <p:blipFill>
          <a:blip r:embed="rId1"/>
          <a:stretch/>
        </p:blipFill>
        <p:spPr>
          <a:xfrm>
            <a:off x="5029200" y="1930320"/>
            <a:ext cx="3174840" cy="299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se sent frustré, anxieux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8:06:55Z</dcterms:created>
  <dc:creator>Isabelle GUERRY</dc:creator>
  <dc:description/>
  <dc:language>en-US</dc:language>
  <cp:lastModifiedBy>TELEBEC</cp:lastModifiedBy>
  <dcterms:modified xsi:type="dcterms:W3CDTF">2001-10-05T19:34:57Z</dcterms:modified>
  <cp:revision>2</cp:revision>
  <dc:subject/>
  <dc:title>PowerPoint Presentation</dc:title>
</cp:coreProperties>
</file>