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A86-9159-4F41-B8CB-79ACF7D4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5D4-E7A0-4458-A5D7-D2532566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04C-E008-4946-BCD4-A0032A7C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E53-4829-400A-AFC2-495D7974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982D-BE67-4B3A-B3E4-2E53EA86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A25E-6881-44D7-9FF0-DA1398BD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DE3-E70C-4FCD-942E-5DB26AE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5E4B-A8BA-4B13-B1C8-56FA5CC9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C094-12A1-4153-BA44-1200CA7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839D-7F6C-474C-96F7-485F46F3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BDD-928C-4DE5-A234-1539377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030-D650-4BC1-AE7A-229A392F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F25F-F868-4AD5-ADA2-E3C4F1F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EDDB-430F-4DBE-9CB5-FBFE7CF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7813-B99D-42F5-BFD9-8D770F51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18DD-5779-4DA0-9759-ACC90DBC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D4B6-213D-4945-81EA-585EDF84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A99-EABC-43FA-A959-C33D1FDA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457-A07F-4D51-96A8-6AC6A8B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DDE-8B7D-4D82-8CC8-B29EA5FA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E03-EF08-42CE-B6B0-0F3E2E54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BF3-981A-4A13-9563-FD72AB2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765-B020-4B2B-8281-4EC169C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8A9-C825-433A-9BA0-E05DC2C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3CB-8C29-45CE-8C14-9F706A3C63FF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E6EC-11E3-4923-BA83-A760D13EF304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90720"/>
            <a:ext cx="89154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GABRIEL GARCÍA MÁRQUEZ</a:t>
            </a:r>
            <a:r>
              <a:rPr b="0" lang="es-ES" sz="32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181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40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13 conseils pour la vie"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GGM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81952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11768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9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962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Peut-être que Dieu souhaite que tu connaisses beaucoup de mauvaises personnes avant de connaître la bonne personne, afin que tu puisses être reconnaissant lorsqu’enfin tu la connaîtr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1384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0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1911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e pleure pas parce quelque chose est terminée, mais souris parce qu’elle a eu lieu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73752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91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Il y aura toujours une personne pour te critiquer. Mais continue à être confiant, en faisant attention à ceux en qui tu seras confiant deux fo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1384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2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1911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Deviens une personne meilleure et assure toi de bien savoir qui tu es avant de connaître quelqu’un et de t’attendre à ce qu’il voie qui tu 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3752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3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1911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</a:rPr>
              <a:t>Ne cours pas trop, les meilleures choses arrivent lorsque tu les attends le moin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600200"/>
            <a:ext cx="8458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Envoie ça aux personnes qui, pour une raison quelconque, sont tes ami(e)s, même si tu ne les vois pas souvent, même si tu ne leur parles pas souvent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Et rappele-toi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Tout ce qui arrive, arrive toujours pour une raison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9880" y="1523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962520"/>
            <a:ext cx="8763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Je ne t’aime pas pour ce que tu es mais pour ce que je suis quand je suis avec to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6200" y="1523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2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1911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Personne ne mérite tes larmes, et celui qui les mérite ne te fera </a:t>
            </a:r>
            <a:r>
              <a:rPr b="0" lang="fr-FR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sûrement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 pas pleurer  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62520" y="1523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3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Si quelqu’un ne t’aime pas comme tu le souhaites, ça ne veut pas dire qu’il ne t’aime pas de toute son â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114800" y="1600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4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2670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Un vrai ami est celui qui tient ta main et touche ton coeur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600200"/>
            <a:ext cx="11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5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267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La pire façon de sentir le manque de quelqu’un, est de s’assoir à son coté et de savoir qu’il ne sera jamais à toi.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11768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6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1911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’arrête jamais de sourire, même si tu es triste, parce que tu ne sais pas qui pourrait tomber amoureux de ton souri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117680" y="16002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7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1148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Peut-être que, pour le monde, tu n’es qu’une personne, mais pour des personnes tu es tout le monde.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19364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8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1911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e perds pas de temps avec quelqu’un qui n’est pas disponible à en passer avec toi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>G2001</dc:creator>
  <dc:description>Cualquier duda o comentario al respecto, esta es mi dirección de mail.
atodosandro@tutopia.com</dc:description>
  <dc:language>en-US</dc:language>
  <cp:lastModifiedBy>TELEBEC</cp:lastModifiedBy>
  <dcterms:modified xsi:type="dcterms:W3CDTF">2002-03-27T20:46:55Z</dcterms:modified>
  <cp:revision>25</cp:revision>
  <dc:subject>13 Líneas para vivir.</dc:subject>
  <dc:title>Presentación de PowerPoint</dc:title>
</cp:coreProperties>
</file>