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CA3-07AA-425C-A451-EEB7FA27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9891-791B-47AD-8258-E48AF7F7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2028-5636-4246-801A-AE3675F0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1A1-9B40-4008-8A9F-DEAFBEAF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F334-63FD-4088-9AE5-ACBBA9D2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CAC-91C1-49C1-BD8E-7E707C28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D154-469E-43AB-8259-03D3515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0D89-6E12-45F4-BB5C-D70F132E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4578-B01B-47FC-A0CA-3788CC0F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DDCE-122A-4610-9B50-7836637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B4A-9A3B-4224-B744-D476351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728-3BA0-486F-878F-4CCDF2CD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10E7-D457-4A6F-AAC5-714892B5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E4F4-9226-4E28-9A5F-D5E1C017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6B4-4184-47F4-B4BD-407630FC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D0C0-E43F-49EB-97E8-587599F6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8C68-724B-453F-9A93-9D01B3A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C5A-5A20-41FE-BDDB-399D1CF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7BEF-4809-4083-B9AE-14437BA8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D2E-D6DF-418B-9E21-37F89114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E64-65FD-4A09-AB7F-E069A6BA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BB9-EBD1-4C44-A28B-E18A9A2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D83-C417-4F63-85BA-4543F07E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640-40B8-4C5C-AD55-04A8458A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3ED2-7A61-49A3-B146-09C81344466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4381-37C4-47EE-91DE-96E0F8979DF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Comic Sans MS"/>
              </a:rPr>
              <a:t>Je vais vous présenter aujourd’hui mes employés de maison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On peut rêver !!!!</a:t>
            </a:r>
            <a:br>
              <a:rPr sz="4400"/>
            </a:br>
            <a:r>
              <a:rPr b="0" lang="de-DE" sz="4400" spc="-1" strike="noStrike">
                <a:solidFill>
                  <a:srgbClr val="ffcc00"/>
                </a:solidFill>
                <a:latin typeface="Times New Roman"/>
              </a:rPr>
              <a:t>Où bien 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991080" y="0"/>
            <a:ext cx="9372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 homme de ména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Fotoart3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46640" cy="51404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homme de chambr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4" name="Descansa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n plombi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manintub" descr=""/>
          <p:cNvPicPr/>
          <p:nvPr/>
        </p:nvPicPr>
        <p:blipFill>
          <a:blip r:embed="rId1"/>
          <a:stretch/>
        </p:blipFill>
        <p:spPr>
          <a:xfrm>
            <a:off x="2536920" y="838080"/>
            <a:ext cx="3952800" cy="586764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n entraîneur de spor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o59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4078080" cy="54864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poseur de moquett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0" name="antonio%20sabato%20jr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81920" cy="55152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77777"/>
            </a:gs>
            <a:gs pos="50000">
              <a:srgbClr val="b2b2b2"/>
            </a:gs>
            <a:gs pos="100000">
              <a:srgbClr val="777777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rtsy117" descr=""/>
          <p:cNvPicPr/>
          <p:nvPr/>
        </p:nvPicPr>
        <p:blipFill>
          <a:blip r:embed="rId1"/>
          <a:stretch/>
        </p:blipFill>
        <p:spPr>
          <a:xfrm>
            <a:off x="2541600" y="914400"/>
            <a:ext cx="3824280" cy="5791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boy qui chauffe l’eau 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 b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c00"/>
                </a:solidFill>
                <a:latin typeface="Times New Roman"/>
              </a:rPr>
              <a:t>Mon médecin et masseu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4" name="2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73560" cy="563868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ffcc00"/>
                </a:solidFill>
                <a:latin typeface="Times New Roman"/>
              </a:rPr>
              <a:t>Et celui qui m‘entretien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6" name="7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p:transition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BEC</cp:lastModifiedBy>
  <dcterms:modified xsi:type="dcterms:W3CDTF">2002-02-28T02:36:56Z</dcterms:modified>
  <cp:revision>10</cp:revision>
  <dc:subject/>
  <dc:title>PowerPoint Presentation</dc:title>
</cp:coreProperties>
</file>