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Le tour" id="0">
      <p:sldLst>
        <p:sld r:id="rId3"/>
        <p:sld r:id="rId9"/>
        <p:sld r:id="rId12"/>
      </p:sldLst>
    </p:custShow>
    <p:custShow name="Copie de Le tour" id="1">
      <p:sldLst>
        <p:sld r:id="rId3"/>
        <p:sld r:id="rId9"/>
        <p:sld r:id="rId1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55B-4860-41DB-90D4-1CEF0B8D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732-E8A3-49C2-B501-428C6FA10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4EDE-AE4C-484A-8DF7-F452A498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6A8F-E66E-4A2A-856E-F27F89E3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719-69A5-41BD-87B7-5E128222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7B5-3BF8-447E-B488-499BA374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380-197E-4B9E-9F01-7D01B162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D9D-14ED-4681-9B09-024EB5F0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212-6B60-436C-AE8B-031A3931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CAE-1910-497E-865C-82E058C5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33AD-877E-4A4A-A917-7D5DAB4A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EAF-96EE-4635-8274-6DF8E36F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EE91-2FD8-48FC-90CB-D4031D0A6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3600" spc="-1" strike="noStrike">
                <a:solidFill>
                  <a:srgbClr val="ffffff"/>
                </a:solidFill>
                <a:latin typeface="Times New Roman"/>
              </a:rPr>
              <a:t>After a moment you will enter the world of magic</a:t>
            </a:r>
            <a:r>
              <a:rPr b="0" i="1" lang="pl-PL" sz="36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ards2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1000" y="2438280"/>
            <a:ext cx="429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Look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I t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your card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6960" y="2787480"/>
            <a:ext cx="429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I knew the choice you would be making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you will witness the unbelievab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You are part of an illusion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ap13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Copperfield’s illus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In this simple programme you will se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That I can tell what you think, through your computer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rds1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4920" y="131436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You can see 6 cards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Think one of them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Just think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Do not ”click” it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Think now</a:t>
            </a: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267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ffffff"/>
                </a:solidFill>
                <a:latin typeface="Times New Roman"/>
              </a:rPr>
              <a:t>Press the space ba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1000" y="2438280"/>
            <a:ext cx="42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Look into my eyes.  Just think about your c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1000" y="2438280"/>
            <a:ext cx="429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I do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know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I can not see you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Times New Roman"/>
              </a:rPr>
              <a:t>But I know what you th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2T14:36:11Z</dcterms:created>
  <dc:creator>DC</dc:creator>
  <dc:description/>
  <dc:language>en-US</dc:language>
  <cp:lastModifiedBy>TELEBEC</cp:lastModifiedBy>
  <dcterms:modified xsi:type="dcterms:W3CDTF">2002-02-26T04:50:16Z</dcterms:modified>
  <cp:revision>41</cp:revision>
  <dc:subject/>
  <dc:title>DC</dc:title>
</cp:coreProperties>
</file>