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7ECF-2E54-43ED-9F3A-CAC04E559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F1F9-6B00-4E1C-AD40-330EF8D80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7D64-5328-40E6-B422-D867D9A09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79C8-A5CF-4990-B363-EB97EB27E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49A2-5B8B-4463-B24A-385489D94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3F65-EFD2-4388-AD3E-763538D8A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CF29-BEF6-48A6-8B91-A64106C5A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D0C6-4FA4-4B68-B96B-D36C542BD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2C9B-6399-46E4-A6D1-C94933D57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F5DD-EC18-4DEA-AF3F-AE4C1DD1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7E5D-B2EC-44DB-95DF-025A7695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D6E5-8984-410E-A0F7-A28B46DE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224FC-4970-4C10-B877-7AD77B4A5A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rush Script MT"/>
              </a:rPr>
              <a:t>Contes &amp; Légendes du pass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imes New Roman"/>
              </a:rPr>
              <a:t>Par Jean Heym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657600" y="457200"/>
          <a:ext cx="1757520" cy="304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457200"/>
                    <a:ext cx="175752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haque homme doit apporter un objet qui ne fond pas entre les doigts de la princesse…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elui qui détient cet objet la guérira, l’épousera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t héritera du Royaume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3657600" y="457200"/>
          <a:ext cx="1757520" cy="304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457200"/>
                    <a:ext cx="175752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rois jeunes princes relevèrent le défi: 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3657600" y="457200"/>
          <a:ext cx="1757520" cy="304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457200"/>
                    <a:ext cx="175752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omic Sans MS"/>
              </a:rPr>
              <a:t>Le premier prince apporta une énorme barre de titanium. </a:t>
            </a:r>
            <a:br>
              <a:rPr sz="2200"/>
            </a:br>
            <a:r>
              <a:rPr b="0" lang="fr-FR" sz="2200" spc="-1" strike="noStrike">
                <a:solidFill>
                  <a:srgbClr val="000000"/>
                </a:solidFill>
                <a:latin typeface="Comic Sans MS"/>
              </a:rPr>
              <a:t>Mais hélas, lorsque la princesse la toucha, la barre se mit à fondre comme de la cire.</a:t>
            </a:r>
            <a:br>
              <a:rPr sz="2200"/>
            </a:br>
            <a:r>
              <a:rPr b="0" lang="fr-FR" sz="2200" spc="-1" strike="noStrike">
                <a:solidFill>
                  <a:srgbClr val="000000"/>
                </a:solidFill>
                <a:latin typeface="Comic Sans MS"/>
              </a:rPr>
              <a:t>Le prince reparti sidéré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3657600" y="457200"/>
          <a:ext cx="1757520" cy="304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457200"/>
                    <a:ext cx="175752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Le deuxième prince apporta un énorme diamant, Pensant que le diamant était la matière la plus solide dans le monde, il proposa à la princesse de le toucher. Mais hélas, lorsque la princesse le toucha, il se mît à fondre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Le prince reparti découragé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657600" y="457200"/>
          <a:ext cx="1757520" cy="304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457200"/>
                    <a:ext cx="175752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Le troisième prince approcha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l demanda à la princesse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Comic Sans MS"/>
              </a:rPr>
              <a:t>"Plonge ta main dans la poche de mon pantalon et touche ce qu’il y a au fond.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3657600" y="457200"/>
          <a:ext cx="1757520" cy="304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457200"/>
                    <a:ext cx="175752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omic Sans MS"/>
              </a:rPr>
              <a:t>La princesse s’exécuta et mit la main dans son pantalon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200"/>
            </a:br>
            <a:r>
              <a:rPr b="0" lang="fr-FR" sz="2200" spc="-1" strike="noStrike">
                <a:solidFill>
                  <a:srgbClr val="000000"/>
                </a:solidFill>
                <a:latin typeface="Comic Sans MS"/>
              </a:rPr>
              <a:t>Alors qu’elle rougissait de plus belle.</a:t>
            </a:r>
            <a:br>
              <a:rPr sz="2200"/>
            </a:br>
            <a:r>
              <a:rPr b="0" lang="fr-FR" sz="2200" spc="-1" strike="noStrike">
                <a:solidFill>
                  <a:srgbClr val="000000"/>
                </a:solidFill>
                <a:latin typeface="Comic Sans MS"/>
              </a:rPr>
              <a:t>Elle sentit quelque chose de très dur. </a:t>
            </a:r>
            <a:br>
              <a:rPr sz="2200"/>
            </a:br>
            <a:r>
              <a:rPr b="0" lang="fr-FR" sz="2200" spc="-1" strike="noStrike">
                <a:solidFill>
                  <a:srgbClr val="000000"/>
                </a:solidFill>
                <a:latin typeface="Comic Sans MS"/>
              </a:rPr>
              <a:t>Elle le prit dans sa main.</a:t>
            </a:r>
            <a:br>
              <a:rPr sz="2200"/>
            </a:br>
            <a:r>
              <a:rPr b="0" lang="fr-FR" sz="2200" spc="-1" strike="noStrike">
                <a:solidFill>
                  <a:srgbClr val="000000"/>
                </a:solidFill>
                <a:latin typeface="Comic Sans MS"/>
              </a:rPr>
              <a:t>    Et rien ne fondit!!!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3657600" y="457200"/>
          <a:ext cx="1757520" cy="304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457200"/>
                    <a:ext cx="175752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  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Le Roi était heureux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out le Royaume éclatait de joie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t le troisième Prince épousa la Princess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ls vécurent heureux et eurent beaucoup d’enfants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3657600" y="457200"/>
          <a:ext cx="1757520" cy="304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457200"/>
                    <a:ext cx="175752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omic Sans MS"/>
              </a:rPr>
              <a:t>Jolie Histoire non ??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omic Sans MS"/>
              </a:rPr>
              <a:t>Et vous ne vous posez pas la question, quelle question ?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3657600" y="457200"/>
          <a:ext cx="1757520" cy="304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457200"/>
                    <a:ext cx="175752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Qu’est-ce que la princesse a touché dans son pantalon ?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3657600" y="457200"/>
          <a:ext cx="1757520" cy="304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457200"/>
                    <a:ext cx="175752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3962520" y="4419720"/>
          <a:ext cx="1143000" cy="1143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2520" y="4419720"/>
                    <a:ext cx="11430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657600" y="457200"/>
          <a:ext cx="1757520" cy="304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457200"/>
                    <a:ext cx="175752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l était une fois, dans un lointain pays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ne très belle princesse, célibataire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l y avait un “M&amp;M's” bien-sûr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l fond dans la bouche, pas dans la mai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 QUOI PENSIEZ-VOUS 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505320" y="685800"/>
          <a:ext cx="2225520" cy="266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685800"/>
                    <a:ext cx="222552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2743200" y="5410080"/>
          <a:ext cx="3801960" cy="571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5410080"/>
                    <a:ext cx="380196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3657600" y="457200"/>
          <a:ext cx="1757520" cy="304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457200"/>
                    <a:ext cx="175752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lle avait un problème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haque chose que la princesse touchait se mettait à fondre… Que se fut du métal, du bois ou du plastique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3657600" y="457200"/>
          <a:ext cx="1757520" cy="304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457200"/>
                    <a:ext cx="175752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 cause de ce handicap, les hommes avaient peur d’elle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ersonne ne voulait l’épouser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3657600" y="457200"/>
          <a:ext cx="1757520" cy="304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457200"/>
                    <a:ext cx="175752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Le Roi était désespéré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Que pouvait-il faire pour l’aider?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657600" y="457200"/>
          <a:ext cx="1757520" cy="304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457200"/>
                    <a:ext cx="175752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l consulta alors ses scientifiques et ses magiciens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n scientifique lui conseill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3657600" y="457200"/>
          <a:ext cx="1757520" cy="304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457200"/>
                    <a:ext cx="175752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omic Sans MS"/>
              </a:rPr>
              <a:t>"Quand ta fille  trouvera quelque chose 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Comic Sans MS"/>
              </a:rPr>
              <a:t>qui ne fond pas entre ses doigts,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Comic Sans MS"/>
              </a:rPr>
              <a:t>elle sera guérie</a:t>
            </a:r>
            <a:r>
              <a:rPr b="0" i="1" lang="en-US" sz="2500" spc="-1" strike="noStrike">
                <a:solidFill>
                  <a:srgbClr val="000000"/>
                </a:solidFill>
                <a:latin typeface="Comic Sans MS"/>
              </a:rPr>
              <a:t>."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3657600" y="457200"/>
          <a:ext cx="1757520" cy="304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457200"/>
                    <a:ext cx="175752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Le Roi avait trouvé une solution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..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3657600" y="457200"/>
          <a:ext cx="1757520" cy="304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457200"/>
                    <a:ext cx="175752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Le lendemain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l organisa une compétition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2T15:02:26Z</dcterms:created>
  <dc:creator/>
  <dc:description/>
  <dc:language>en-US</dc:language>
  <cp:lastModifiedBy>TELEBEC</cp:lastModifiedBy>
  <dcterms:modified xsi:type="dcterms:W3CDTF">2001-11-27T20:35:36Z</dcterms:modified>
  <cp:revision>26</cp:revision>
  <dc:subject/>
  <dc:title>Contes &amp; histoires du passé</dc:title>
</cp:coreProperties>
</file>