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72F5-901A-471B-9A5E-FAA97BAA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EAC7-C81B-42D1-B104-085439D9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E69-0F30-44B7-B678-6A776001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F018-0819-49E5-87AC-0142A7A1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065-AEE4-407F-BC53-CEDA78F6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1E9C-444C-40C8-9C2F-2154ADF5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F722-4B54-40A4-A1F2-D2126A6F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E49B-3FDD-492A-877C-89B82206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36C2-B21D-41F7-AF7E-3EEBD277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950B-AC87-4FCA-A354-EF24DC81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4B57-1C4C-46BA-9472-626159BB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8A8-AC52-4224-A726-3D51AF81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2ea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0CC3-0A57-4A6B-84F6-A19706F51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BASSOON.WAV" TargetMode="External"/><Relationship Id="rId2" Type="http://schemas.microsoft.com/office/2007/relationships/media" Target="file:///tmp/home/.config/libreoffice/4/user/gallery/BASSOO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2ea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99"/>
                </a:solidFill>
                <a:latin typeface="Tahoma"/>
              </a:rPr>
              <a:t>Le cauchemar de toute femm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3434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2ea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ahoma"/>
              </a:rPr>
              <a:t>Vous rencontrez un beau gars 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505320" y="2133720"/>
            <a:ext cx="5410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Vous avez un souper romantique à votre restaurant fav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Chandelles, mus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Il n’a de yeux que pour v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Le parfait gentle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ricky.martin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3166920" cy="4267440"/>
          </a:xfrm>
          <a:prstGeom prst="rect">
            <a:avLst/>
          </a:prstGeom>
          <a:ln w="0">
            <a:noFill/>
          </a:ln>
        </p:spPr>
      </p:pic>
    </p:spTree>
  </p:cSld>
  <p:transition advTm="8000"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2ea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…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et en plu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Il est riche et intelligen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Il danse merveilleusement b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Il embrasse de manière enflamm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PLEHUG" descr=""/>
          <p:cNvPicPr/>
          <p:nvPr/>
        </p:nvPicPr>
        <p:blipFill>
          <a:blip r:embed="rId1"/>
          <a:stretch/>
        </p:blipFill>
        <p:spPr>
          <a:xfrm>
            <a:off x="6324480" y="4648320"/>
            <a:ext cx="1398600" cy="1914480"/>
          </a:xfrm>
          <a:prstGeom prst="rect">
            <a:avLst/>
          </a:prstGeom>
          <a:ln w="0">
            <a:noFill/>
          </a:ln>
        </p:spPr>
      </p:pic>
      <p:pic>
        <p:nvPicPr>
          <p:cNvPr id="49" name="CPLEWLTZ" descr=""/>
          <p:cNvPicPr/>
          <p:nvPr/>
        </p:nvPicPr>
        <p:blipFill>
          <a:blip r:embed="rId2"/>
          <a:stretch/>
        </p:blipFill>
        <p:spPr>
          <a:xfrm>
            <a:off x="6781680" y="990720"/>
            <a:ext cx="1860840" cy="3219480"/>
          </a:xfrm>
          <a:prstGeom prst="rect">
            <a:avLst/>
          </a:prstGeom>
          <a:ln w="0">
            <a:noFill/>
          </a:ln>
        </p:spPr>
      </p:pic>
    </p:spTree>
  </p:cSld>
  <p:transition advTm="8000"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2ea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En somme: l’homme de vos rê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-14040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Vos copines sont envie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Vos parents l’ado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UNCH" descr=""/>
          <p:cNvPicPr/>
          <p:nvPr/>
        </p:nvPicPr>
        <p:blipFill>
          <a:blip r:embed="rId1"/>
          <a:stretch/>
        </p:blipFill>
        <p:spPr>
          <a:xfrm>
            <a:off x="6095880" y="2590920"/>
            <a:ext cx="1898640" cy="1741320"/>
          </a:xfrm>
          <a:prstGeom prst="rect">
            <a:avLst/>
          </a:prstGeom>
          <a:ln w="0">
            <a:noFill/>
          </a:ln>
        </p:spPr>
      </p:pic>
      <p:pic>
        <p:nvPicPr>
          <p:cNvPr id="53" name="910" descr=""/>
          <p:cNvPicPr/>
          <p:nvPr/>
        </p:nvPicPr>
        <p:blipFill>
          <a:blip r:embed="rId2"/>
          <a:stretch/>
        </p:blipFill>
        <p:spPr>
          <a:xfrm>
            <a:off x="5029200" y="4724280"/>
            <a:ext cx="2057400" cy="1752840"/>
          </a:xfrm>
          <a:prstGeom prst="rect">
            <a:avLst/>
          </a:prstGeom>
          <a:ln w="0">
            <a:noFill/>
          </a:ln>
        </p:spPr>
      </p:pic>
    </p:spTree>
  </p:cSld>
  <p:transition advTm="8000"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2ea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Un homme de princi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Pas de sexe avant le mariage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lovemaking" descr=""/>
          <p:cNvPicPr/>
          <p:nvPr/>
        </p:nvPicPr>
        <p:blipFill>
          <a:blip r:embed="rId1"/>
          <a:stretch/>
        </p:blipFill>
        <p:spPr>
          <a:xfrm>
            <a:off x="2514600" y="3138480"/>
            <a:ext cx="3733920" cy="2738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14600" y="2666880"/>
            <a:ext cx="3809880" cy="3886200"/>
          </a:xfrm>
          <a:prstGeom prst="noSmoking">
            <a:avLst>
              <a:gd name="adj" fmla="val 37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2ea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wedding" descr=""/>
          <p:cNvPicPr/>
          <p:nvPr/>
        </p:nvPicPr>
        <p:blipFill>
          <a:blip r:embed="rId1"/>
          <a:stretch/>
        </p:blipFill>
        <p:spPr>
          <a:xfrm>
            <a:off x="5769000" y="1752480"/>
            <a:ext cx="3222720" cy="4572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Parlons-en du mariag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67816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Vous avez une superbe ro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le gâteau est délici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la réception est l’évenement      de l’ann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ous partez pour votre      lune de miel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2ea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Et c’est alors que 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%20womans%20nightmare%20pic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589720" cy="3657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1440" y="6019920"/>
            <a:ext cx="80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Dire que les filles affirment que la grandeur n’a pas d’importanc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00:02:38Z</dcterms:created>
  <dc:creator/>
  <dc:description/>
  <dc:language>en-US</dc:language>
  <cp:lastModifiedBy>TELEBEC</cp:lastModifiedBy>
  <dcterms:modified xsi:type="dcterms:W3CDTF">2002-02-06T21:30:17Z</dcterms:modified>
  <cp:revision>23</cp:revision>
  <dc:subject/>
  <dc:title>Le cauchemar de toute femme</dc:title>
</cp:coreProperties>
</file>