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8E02-D4F3-417F-B468-0EA7FB15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92D-6EAB-4CDA-AF5D-7DD406BC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3A6-A871-4CB6-A22F-C0D392EF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AEA-0FCB-4689-A7C0-ED9B1DA7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43FC-8134-41A4-80F0-DEBDB8FF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BF6F-52B2-489D-9A31-F6B99C7F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523D-A8B5-4045-A99E-FE95FCE7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83C8-E31A-4601-B7B9-69FDB5C6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8AF5-F376-46D6-8B48-BCCE9060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EBCC-0399-4132-894C-792B6247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E265-BD1A-447A-B50D-3A232128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048-27AB-42BC-837F-4ABFC379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271E-5EDA-42C9-BD1F-62EEAAA2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A637-3D94-40B9-92AD-98C7D5B0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A4A9-945E-4DB0-8346-4227C75F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E663-306A-4063-8B8E-63896654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11C2-C88E-4905-9632-09B8A049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AD27-E8E1-4861-A5B7-5D353A87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80B-9B49-4BA1-B1F9-090EF888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6DEA-BE3A-445A-B657-53ADD109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1B2-CE05-4B16-A958-0CCA2965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977-22C7-4AE4-9400-976E12D8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B7F-DEE6-4A7E-B323-3B8FFF57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788-0567-4439-A657-AD2CD219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B45D-82D3-44E0-A061-D4FBFA561405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D4E5-A94E-46D5-8398-B0B20A69E6F0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399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D666-F5E5-4B77-8596-9ABE43F92D84}" type="datetime">
              <a:rPr b="0" lang="de-DE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72F5-6720-48ED-9E8E-BA8D0264D7E5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6399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ffffcc"/>
                </a:solidFill>
                <a:latin typeface="Arial Narrow"/>
              </a:rPr>
              <a:t>Amour interdi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576C-3C39-467A-858C-C211EF56FB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85A84E5-1DAB-4C5F-A0F1-1888B2D665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0152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A000001" descr=""/>
          <p:cNvPicPr/>
          <p:nvPr/>
        </p:nvPicPr>
        <p:blipFill>
          <a:blip r:embed="rId1"/>
          <a:stretch/>
        </p:blipFill>
        <p:spPr>
          <a:xfrm>
            <a:off x="0" y="-108000"/>
            <a:ext cx="8915400" cy="689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504-44C6-45C1-B084-696F564F56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3F374-9337-4B2A-86FA-D8C13F17BBA0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657600" y="1905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Arial"/>
              </a:rPr>
              <a:t>Attention:</a:t>
            </a: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Si vous avez 18 ans ou moins, SVP quittez ce program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96C-933A-420E-ACAD-D7E93AD6E1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DCCE7-677E-4837-A665-78D1F186D0B7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657600" y="1905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.. C‘était une nuit completement noire et orageuse 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66C-A2D6-4708-8209-BF80E7E5B1D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68E7D-D21E-4603-BC92-3CAEB8CACFFC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657600" y="1905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.. Et une panne de courant se produit 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21E-CADC-4C16-8F8A-F0575411B87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2E34A-0D94-474C-B5FE-7EE709EE5263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657600" y="1905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..... Sans aucun avertissement, ils se rapprochaient un de l‘autre ..… comme des animaux en manque 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57E-C270-47A2-B1E2-6B8F2DC98FB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C4E40-D37F-48CD-B7BE-3E92817BBBED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6576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...... Ils se sont collés et s‘embrassa passionnément 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1E8-72ED-4638-8521-E61E6D7E5A2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291CA-72F5-4F4A-8078-BFA75AE09B39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6576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...... Ils s‘avaient ce qu‘ils faisaient était interdit, mais rien d‘autre importait pour eux 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258-6FA1-45E2-A48F-68A245AFF68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B0960-AFEA-4C64-85F7-A33858255812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657600" y="1905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...... Ils ne pouvaient résister un à l‘autre, ils se sentaient tellement bien. Un frisson leur parcourant le corps tout entier 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F1B-4EBB-4225-AB7C-20159F64DBB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450CB-5B3A-45E2-88C5-5865CBC2F1A3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65724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....... Soudain, l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0" spc="-1" strike="noStrike">
                <a:solidFill>
                  <a:srgbClr val="ffffcc"/>
                </a:solidFill>
                <a:latin typeface="Arial"/>
              </a:rPr>
              <a:t>Lumière</a:t>
            </a: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 revenue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3BE-9E47-43A5-A142-C78824B4B74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80ECB-82CE-46F6-BF1F-57D335EB3025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LEBEC</cp:lastModifiedBy>
  <dcterms:modified xsi:type="dcterms:W3CDTF">2002-02-05T03:04:49Z</dcterms:modified>
  <cp:revision>8</cp:revision>
  <dc:subject/>
  <dc:title>PowerPoint-Präsentation</dc:title>
</cp:coreProperties>
</file>