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C7A-6A89-4EA2-B799-E5190DB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5F8-F805-4372-8675-B728CB4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39B-4938-4670-9896-E788C620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934-FE09-45BB-9B6D-8A198D85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195-A72F-4CD2-9897-F3C03898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A8B-EB9F-430B-888E-F52D269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F89-09A6-4B67-93D7-949241B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E79-584E-49BD-B1CD-60AFF6F2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167-C9B2-49F0-BC20-7E02FE82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823-B034-4E2C-AAD3-F64AEB5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4B0-EF6E-47A1-BD58-6207FC3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4B8-62FB-4DD1-8764-4457D4D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242-8C1B-4B08-85E2-8D0DFC86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990720"/>
            <a:ext cx="8305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Oswaldo, Carlos, Ruben &amp; Javier sont 4 frères d’origine colombienne qui ont souffert l’incroyable, suite aux différents problèmes qui ont touché leur p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Ils se sont retrouvés sans rien, ils ont perdu leur famille, leur maison et tous leurs vêtements; tout est par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3 organisations mondiales et l’ACNUR ont informé la terre entière, et ont demandé si quelqu’un voulait les adopter pour leur redonner un toit, une famil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Vous trouverez ci-après une photo de ces 4 orphelins qui vous fera peut-être considérer la possibilité de les ado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tant sur votre générosité fémin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ombia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2:57:40Z</dcterms:created>
  <dc:creator>Cornelia Herrmann</dc:creator>
  <dc:description/>
  <dc:language>en-US</dc:language>
  <cp:lastModifiedBy>TELEBEC</cp:lastModifiedBy>
  <dcterms:modified xsi:type="dcterms:W3CDTF">2001-10-21T21:06:07Z</dcterms:modified>
  <cp:revision>3</cp:revision>
  <dc:subject/>
  <dc:title>No Slide Title</dc:title>
</cp:coreProperties>
</file>